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68F-BB5D-4BA0-BFA5-4CD84644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A0EA-6054-4C31-BE28-DCBADF18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BA8-A420-44CD-BE6E-88B51D31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FDFF-1810-4E45-BB38-B6E5F41D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05F-B1D7-466B-9AC0-785A0DA9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F31-3FBC-47AE-A5CF-809E5767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9A2-0F5D-41E5-8DF3-97C11BD4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EB2-E632-423B-9C86-9457DD6D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EED6-E7AD-4DF7-8492-67D1B096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097-17A0-4E14-9688-3C5F9705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69C-CE27-4CCF-900C-9E23E34A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067-1F06-4A2D-9941-EFF81251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FC89C2-A619-48F5-8985-506CA2EBEEED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4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del sele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9280" y="2852640"/>
          <a:ext cx="8748720" cy="31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52640"/>
                    <a:ext cx="874872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84360" y="836640"/>
            <a:ext cx="77724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r(mfrow=c(2,2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fitted(Cars93.step), resid(Cars93.step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bline(h = 0, lty = 4, col =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qnorm(resid(Cars93.step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qline(resid(Cars93.step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66E-A611-4F18-9D73-81E80032FEC5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What happens if we use AIC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ars93.AIC &lt;- stepAIC(Cars93.lm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cope = list(lower = ~ Weight, upper = ~ Type + Min.Price +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ice + Max.Price + AirBags + DriveTrain + Cylinders + EngineSize + Horsepower + RPM + Rev.per.mile +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uel.tank.capacity + Passengers + Length + Wheelbase + Width + Turn.circle + Weight + Origin), k =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4AC-105C-4F5F-A293-EA94F6126B2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000./MPG.city ~ Weight + Cylinders + Fuel.tank.capacity + Length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rigin + Min.Price + Horsepower + Wheelba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f Sum of Sq      RSS      AIC  F Value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none&gt;               938.132 240.9501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heelbase  1   24.2090  962.341 241.3195  2.06444 0.154669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Horsepower  1   45.2546  983.387 243.3315  3.85913 0.052948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ength  1   64.4150 1002.547 245.1260  5.49305 0.021574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ylinders  5  157.5719 1095.704 245.3894  2.68742 0.026898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in.Price  1   82.2667 1020.399 246.7675  7.01536 0.009733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rigin  1  105.3495 1043.481 248.8478  8.98377 0.003627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uel.tank.capacity  1  156.0240 1094.156 253.2579 13.30508 0.000469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eight  1  239.4604 1177.592 260.0924 20.42019 0.000021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Much less stringent choice of variables.  Perhaps we should remove some starting with the least significant.  The ‘backwards elimination’ sequence is as follow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BF46-CB2C-4F59-8363-150775F2D28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555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ars93.AIC &lt;- update(Cars93.AIC, .~.-Wheelbas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ars93.AIC &lt;- update(Cars93.AIC, .~.-Horsepower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ars93.AIC &lt;- update(Cars93.AIC, .~.-Cylinder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1000./MPG.city ~ Weight + Fuel.tank.capacity + Length + Origin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Min.Pric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Df Sum of Sq      RSS      AIC F Value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&lt;none&gt;              1126.909 244.0010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Length  1  122.4164 1249.326 251.5917  9.4508 0.002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Min.Price  1  153.1380 1280.047 253.8509 11.8226 0.000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Origin  1  188.6606 1315.570 256.3966 14.5650 0.000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Fuel.tank.capacity  1  223.0965 1350.006 258.7996 17.2236 0.000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Weight  1  362.0418 1488.951 267.9102 27.9505 0.00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8DB-A72B-4E2B-81BA-318C5C12A25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l interaction terms have been remov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ith the BIC model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” is not present, but “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Origi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” i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in.pric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” is presumably a surrogate variable for engineering refineme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IC model is very different, but has a slightly lower multiple R</a:t>
            </a:r>
            <a:r>
              <a:rPr b="0" lang="en-GB" sz="2400" spc="-1" strike="noStrike" baseline="30000">
                <a:solidFill>
                  <a:srgbClr val="000099"/>
                </a:solidFill>
                <a:latin typeface="Arial Unicode MS"/>
              </a:rPr>
              <a:t>2.  (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ably a very biased equation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ider the standard diagnostic plots for the BIC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iduals vs fitted values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rmal scores plot of the residua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BFC-42D4-44ED-9866-7D84E870AF0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ree modelling strateg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Courier New"/>
              </a:rPr>
              <a:t>#### now for something completely different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equire(rpar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ars93.tm &lt;- rpart(I(1000/MPG.city) ~ Type + Min.Price + Price + Max.Price + AirBags + DriveTrain + Cylinders + EngineSize + Horsepower + RPM + Rev.per.mile + Fuel.tank.capacity + Passengers + Length + Wheelbase + Width + Turn.circle + Weight + Origin, Cars9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cp(Cars93.t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Cars93.tm); text(Cars93.tm, col = "green4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predict(Cars93.tm), predict(Cars93.AIC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0, 1, lty = "solid", col = "red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232-499A-46E1-8815-B8BD091B84C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9A7F-A756-48BD-8177-74327EA95A44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8299" r="0" b="10498"/>
          <a:stretch/>
        </p:blipFill>
        <p:spPr>
          <a:xfrm>
            <a:off x="826920" y="0"/>
            <a:ext cx="7417080" cy="602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ECC8-2B9E-4132-B118-C24EE1360E6D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7207" r="0" b="0"/>
          <a:stretch/>
        </p:blipFill>
        <p:spPr>
          <a:xfrm>
            <a:off x="900000" y="0"/>
            <a:ext cx="7272360" cy="674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067-4F67-4EC2-AB3F-CD074606F57B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andom forests of tre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require(randomFor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Cars93.rf &lt;- randomForest(1000/MPG.city ~ Type + Min.Price + Price + Max.Price + AirBags + DriveTrain + Cylinders + EngineSize + Horsepower + RPM + Rev.per.mile + Fuel.tank.capacity + Passengers + Length + Wheelbase + Width + Turn.circle + Weight + Origin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lot(predict(Cars93.rf), predict(Cars93.AIC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abline(0, 1, lty = "solid"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7E9B-EC3F-4755-B195-02D492E809C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Cars 93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Details (~data) from 93 makes of car released in the USA in 1993.  Variable names largely self-explanatory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oblem: build a prediction equation for the fuel economy from the other variables available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int(names(Cars93), quote = F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] Manufacturer       Type               Min.Pric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4] Price              Max.Price          MPG.city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7] MPG.highway        AirBags            DriveTrain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0] Cylinders          EngineSize         Horsepower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3] RPM                Rev.per.mile       Man.trans.avail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6] Fuel.tank.capacity Passengers         Length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9] Wheelbase          Width              Turn.circle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22] Rear.seat.room     Luggage.room       Weight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25] Origin             Mak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1FC-A9FF-4387-BB56-C8CFC130E29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E5FF-EB11-4CEF-B13A-420073C38BF5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ree models can be unstable, but the tree structure is often enlightening and predictions from them can be fairly st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Random forests can substantially improve the predictive capacity of tree models, but at the expense of interpretability: a 'black box' predi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Really tools from machine learning and data mining, but useful in conjunction with classical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ore later in the course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FA3-0045-49B8-B9C7-C1A77D48324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cale of the respon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s the response we choos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PG.cit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dominant predictor will (presumably) be the weight of the vehicl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onsider some exploratory plot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PG.city</a:t>
            </a: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 v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eigh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1000/MPG.city</a:t>
            </a: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 v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eigh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quire(lattic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1 &lt;- xyplot(MPG.city ~ Weight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2 &lt;- xyplot(1000/MPG.city ~ Weight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nt(p1, c(0, 0.5, 0.5, 1), mor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nt(p2, c(0.5, 0.5, 1, 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BB1C-D310-486E-AF06-0FF76B653E3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3860640"/>
            <a:ext cx="7772400" cy="21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first scale asymptotes to zero and the variance contracts for large w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second scale is open-ended for large vehicles and shows much more variance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ither scale is a convenient one for fuel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0" b="50005"/>
          <a:stretch/>
        </p:blipFill>
        <p:spPr>
          <a:xfrm>
            <a:off x="790560" y="0"/>
            <a:ext cx="7561440" cy="37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94A-D6D5-4227-B9E3-013FE24BC375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x-cox transform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evice for choosing a scale which is a power transform of the original.  (See introductory session.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rs93.lm &lt;- lm(MPG.city ~ Weight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oxcox(Cars93.lm, lambda = seq(-2, -0.5, len=15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nce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λ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= -1 is well within the acceptable range (next slide), this is the scale we confir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Now look for other variables that might improve the prediction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ars93.lm &lt;- update(Cars93.lm, 1000/MPG.city ~ 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B062-F21B-4D84-A6B7-E6C24D1B8D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8299" r="0" b="0"/>
          <a:stretch/>
        </p:blipFill>
        <p:spPr>
          <a:xfrm>
            <a:off x="934920" y="0"/>
            <a:ext cx="7272360" cy="66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635-4A07-4AA0-98B4-492371FD2863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utomated selection of variab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never a good idea to entrust the selection of variables in a regression entirely to some automated procedu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, nevertheless, often quite a good idea to take into account which variables such procedures suggest as important, along with other thing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fit an intermediate regression and consider an automated procedure that steps “up and down”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ather than minimize AIC, we choose BIC, which penalizes redundant variables much hard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0753-4780-437E-BD0A-D3184004E76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rs93.lm1 &lt;- lm(1000/MPG.city ~ Type * (Weight + Horsepower + Length)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ropterm(Cars93.lm1, test = "F", k = log(93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000/MPG.city ~ Type * (Weight + Horsepower + Length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Sum of Sq      RSS      AIC  F Value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          1059.993 335.0903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ype:Weight  5  163.6090 1223.602 325.7762 2.130018 0.072042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ype:Horsepower  5   92.1563 1152.150 320.1804 1.199779 0.3185266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ype:Length  5  149.1609 1209.154 324.6715 1.941918 0.098471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Notice that only the marginal terms are dropped and none are significant.</a:t>
            </a:r>
            <a:r>
              <a:rPr b="1" lang="en-GB" sz="18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798-D865-478D-9935-C7DA70A887F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tepwise refinemen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ars93.step &lt;- stepAIC(Cars93.lm1, scope = list(lower = ~ Weight, upper = ~ Type*(Min.Price + Price + Max.Price + AirBags + DriveTrain + Cylinders + EngineSize + Horsepower + RPM + Rev.per.mile + Fuel.tank.capacity + Passengers + Length + Wheelbase + Width + Turn.circle + Weight + Origin)), k = log(93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Cars93.step, test = "F", k = log(93)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000/MPG.city ~ Weight + Length + Fuel.tank.capacity + Origin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in.Pric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Sum of Sq     RSS     AIC F Value     Pr(F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                      1126.91  259.20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Weight              1    362.04 1488.95  280.57   27.95 9.137e-0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ength              1    122.42 1249.33  264.25    9.45 0.002819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uel.tank.capacity  1    223.10 1350.01  271.46   17.22 7.718e-05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Origin              1    188.66 1315.57  269.06   14.57 0.000252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in.Price           1    153.14 1280.05  266.51   11.82 0.000900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F52-ECE9-4708-ABB2-5FED16D094C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7T02:58:25Z</dcterms:modified>
  <cp:revision>12</cp:revision>
  <dc:subject/>
  <dc:title>S-PLUS, An Introduction to the System</dc:title>
</cp:coreProperties>
</file>