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027F-5B4D-426A-A6D0-6EA1B75B9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AA16-1503-48A8-A6C5-F0ECAB71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FA56-F75D-4825-81CB-5CC81E80C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F731-ECE2-4BD6-A523-07984B99D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0009-29C7-4055-AA1D-97D51A4F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9B76-8F93-4BFA-9975-165D7762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8B28-E8E9-490D-8370-2B4901EA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4863-BA52-48DC-AF27-7AB20695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3905-B57E-451E-927B-A82781E0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7C7D-5074-494C-BD69-E391FE1E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63C8-9E40-4400-A21F-A82FC705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224F-6257-433B-96AD-674ECD3E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1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74C36FE-FE5B-49CF-B3DB-B82BB1AC5534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06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eneralized Linear Models 1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itting an initial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42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udworm.lg &lt;- glm(SF ~ sex/ldose, family = binomial, data = Budworms, trace = 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GLM    linear loop 1: deviance = 5.0137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GLM    linear loop 2: deviance = 4.9937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GLM    linear loop 3: deviance = 4.9937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GLM    linear loop 4: deviance = 4.9937</a:t>
            </a:r>
            <a:r>
              <a:rPr b="0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ummary(budworm.lg, cor = 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Coefficients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  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Value Std. Error    t value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(Intercept) -2.9935418  0.5526997 -5.416217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ex  0.1749868  0.7783100  0.2248292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exFldose  0.9060364  0.1671016  5.4220677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exMldose  1.2589494  0.2120655  5.9366067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(Dispersion Parameter for Binomial family taken to be 1 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DFF0-0A4C-4B53-AF58-FAC2348518D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Displaying the fi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ttach(Budworms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lot(c(1,32), c(0,1), type = "n", xlab = "dose"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g = "x", axes = F,ylab = "Pr(Death)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xis(1, at = 2^(0:5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xis(2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oints(2^ldose[1:6], numdead[1:6]/20, pch = 4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oints(2^ldose[7:12], numdead[7:12]/20, pch = 1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d &lt;- seq(0, 5, length = 100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ines(2^ld, predict(budworm.lg, data.frame(ldose = ld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x = factor(rep("M", length(ld)), levels = levels(sex))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ype = "response"), col = 3, lwd = 2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ines(2^ld, predict(budworm.lg, data.frame(ldose = ld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x = factor(rep("F", length(ld)), levels = levels(sex))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ype = "response"), lty = 2, col = 2, lwd = 2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etach(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2EF3-BA32-419D-B04A-F9E9334340B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611280" y="0"/>
          <a:ext cx="7380360" cy="682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0"/>
                    <a:ext cx="7380360" cy="68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5759-4EFD-4391-8962-EBA8CA2CE46F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s sex significant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This is a marginal term and so its meaning has to be interpreted carefully.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Watch what happens if ldose is re-centred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udworm.lgA &lt;- update(budworm.lg, . ~ sex/I(ldose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- 3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GLM    linear loop 1: deviance = 5.0137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GLM    linear loop 2: deviance = 4.9937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GLM    linear loop 3: deviance = 4.9937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GLM    linear loop 4: deviance = 4.9937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ummary(budworm.lgA, cor = F)$coefficients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Courier New"/>
              </a:rPr>
              <a:t>             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alue Std. Error   t value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(Intercept) -0.2754324  0.2305173 -1.194845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ex  1.2337258  0.3769761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3.272689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exFI(ldose - 3)  0.9060364  0.1671016  5.42206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exMI(ldose - 3)  1.2589494  0.2120655  5.93660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80E3-08B9-45B3-A261-7419B3E3DEA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hecking for curvatur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anova(update(budworm.lgA, . ~ . + sex/I((ldose - 3)^2)), test = "Chisq"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1: deviance = 3.1802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2: deviance = 3.1716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3: deviance = 3.1716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4: deviance = 3.1716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1: deviance = 5.0137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2: deviance = 4.9937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3: deviance = 4.9937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4: deviance = 4.9937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1: deviance = 121.8135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2: deviance = 118.7995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3: deviance = 118.7986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4: deviance = 118.7986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Analysis of Deviance Table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Terms added sequentially (first to last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          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Df Deviance Resid. Df Resid. Dev   Pr(Chi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     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NULL                    11   124.8756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      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ex  1   6.0770        10   118.7986 0.0136955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I(ldose - 3) %in% sex  2 113.8049         8     4.9937 0.000000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I((ldose - 3)^2) %in% sex  2   1.8221         6     3.1716 0.4021031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DA27-6832-490D-9403-44CC98F3A6D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 final model: parallelism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udworm.lg0 &lt;- glm(SF ~ sex + ldose - 1, family = binomial, Budworms, trace = 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GLM    linear loop 1: deviance = 6.8074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GLM    linear loop 2: deviance = 6.7571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GLM    linear loop 3: deviance = 6.7571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GLM    linear loop 4: deviance = 6.7571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nova(budworm.lg0, budworm.lgA, test = "Chisq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Analysis of Deviance Tabl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   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Terms Resid. Df Resid. Dev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1             sex + ldose - 1         9   6.757064                             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2 sex + I(ldose - 3) %in% sex         8   4.993727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Test Df Deviance   Pr(Chi)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1 vs. 2  1 1.763337 0.184208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BFF0-D9C8-4F92-9CD1-28B68F289ED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ffective dosages (V&amp;R p193)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7772400" cy="46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gt; dose.p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unction(obj, cf = 1:2, p = 0.5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ta &lt;- family(obj)$link(p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b &lt;- coef(obj)[cf]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x.p &lt;- (eta - b[1])/b[2]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names(x.p) &lt;- paste("p = ", format(p), ":", sep = ""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d &lt;-  - cbind(1, x.p)/b[2]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E &lt;- sqrt(((pd %*% vcov(obj)[cf, cf]) * pd) %*% c(1, 1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res &lt;- structure(x.p, SE = SE, p = p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oldClass(res) &lt;- "glm.dose"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res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gt; print.glm.dose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unction(x, ...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M &lt;- cbind(x, attr(x, "SE"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dimnames(M) &lt;- list(names(x), c("Dose", "SE"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x &lt;- M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NextMethod("print"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00C8-D2B4-4871-87F6-85A8D29DC8C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xampl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ose.p(budworm.lg0, cf = c(1, 3), p = 1:3/4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2400" spc="-1" strike="noStrike">
                <a:solidFill>
                  <a:srgbClr val="3333cc"/>
                </a:solidFill>
                <a:latin typeface="Courier New"/>
              </a:rPr>
              <a:t>Dose        SE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</a:rPr>
              <a:t>p = 0.25: 2.231265 0.2499089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</a:rPr>
              <a:t>p = 0.50: 3.263587 0.2297539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</a:rPr>
              <a:t>p = 0.75: 4.295910 0.2746874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10F2-B7C2-4B14-9D85-319207D6AC4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 second example: low birth weigh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options(contrasts = c("contr.treatment", "contr.poly"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ttach(birthw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ace &lt;- factor(race, labels = c("white", "black", "other"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able(ptl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0  1 2 3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159 24 5 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td &lt;- factor(ptl &gt; 0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able(ftv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0  1  2 3 4 6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100 47 30 7 4 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tv &lt;- factor(ftv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evels(ftv)[ - (1:2)] &lt;- "2+"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able(ftv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0  1 2+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100 47 42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wt &lt;- data.frame(low = factor(low), age, lwt, race, smoke = (smoke &gt; 0), ptd, ht = (ht &gt; 0), ui = (ui &gt; 0), ftv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etach(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m(race, ptd, ftv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408A-7D31-4A85-9815-7FC051C0516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618840"/>
            <a:ext cx="7772400" cy="63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nitial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5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irthwt.glm &lt;- glm(low ~ ., family = binomial, data = bw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ropterm(birthwt.glm, test = "Chisq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low ~ age + lwt + race + smoke + ptd + ht + ui + ftv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Df Deviance      AIC      LRT   Pr(Chi)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&lt;none&gt;    195.4755 217.4755   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age  1 196.4174 216.4174 0.941876 0.3317959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lwt  1 200.9495 220.9495 5.473941 0.0193020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race  2 201.2268 219.2268 5.751273 0.0563802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moke  1 198.6738 218.6738 3.198241 0.073717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ptd  1 203.5841 223.5841 8.108539 0.0044057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ht  1 202.9339 222.9339 7.458402 0.006314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ui  1 197.5855 217.5855 2.109974 0.1463418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ftv  2 196.8337 214.8337 1.358185 0.5070769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83BD-076C-4B25-9A8F-1F8B7FDE4B5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Nature of the generaliza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ingle response variable,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ome candidate predictor variables </a:t>
            </a:r>
            <a:r>
              <a:rPr b="0" i="1" lang="en-GB" sz="24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0" i="1" lang="en-GB" sz="24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000099"/>
                </a:solidFill>
                <a:latin typeface="Times New Roman"/>
              </a:rPr>
              <a:t>, x</a:t>
            </a:r>
            <a:r>
              <a:rPr b="0" i="1" lang="en-GB" sz="24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0" i="1" lang="en-GB" sz="2400" spc="-1" strike="noStrike">
                <a:solidFill>
                  <a:srgbClr val="000099"/>
                </a:solidFill>
                <a:latin typeface="Times New Roman"/>
              </a:rPr>
              <a:t>, …, x</a:t>
            </a:r>
            <a:r>
              <a:rPr b="0" i="1" lang="en-GB" sz="2400" spc="-1" strike="noStrike" baseline="-25000">
                <a:solidFill>
                  <a:srgbClr val="000099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distribution of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y 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an only depend on the predictors through a single linear function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distribution belongs to the GLM family of distribution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re may (or may not) be an unknown scale parameter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619280" y="3357720"/>
          <a:ext cx="4824360" cy="60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357720"/>
                    <a:ext cx="4824360" cy="60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85E5-07EC-44D5-A907-A0140A24670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nteractions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previous model output suggests removing fitv and age.  This is confirmed by successive deletion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hat happens, though, when we check for interactions between factors and curvatures in the numeric predictors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BFAD-6263-4530-B0DB-4E49B758FAA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4360" y="549000"/>
            <a:ext cx="7772400" cy="548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irthwt.step2 &lt;- stepAIC(birthwt.glm,  ~ .^2 + I(scale(age)^2) + I(scale(lwt)^2), trace = F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irthwt.step2$anova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tepwise Model Path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Analysis of Deviance Tabl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nitial Model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low ~ age + lwt + race + smoke + ptd + ht + ui + ftv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Final Model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low ~ age + lwt + smoke + ptd + ht + ui + ftv + age:ftv + smoke:ui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tep Df Deviance Resid. Df Resid. Dev      AIC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1                              178   195.4755 217.4755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2  + age:ftv  2 12.47490       176   183.0006 209.0006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3 + smoke:ui  1  3.05681       175   179.9438 207.943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4     - race  2  3.12959       177   183.0734 207.073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6777-CB42-4E14-9DAA-F7BE4E06E6E2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inal model: two important interact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ropterm(birthwt.step2, test = "Chisq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low ~ age + lwt + smoke + ptd + ht + ui + ftv + age:ftv + smoke:ui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     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Df Deviance      AIC      LRT    Pr(Chi)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&lt;none&gt;    183.0734 207.0734                  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lwt  1 191.5590 213.5590  8.48561 0.00357967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ptd  1 193.5880 215.5880 10.51462 0.00118434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ht  1 191.2108 213.2108  8.13743 0.00433607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age:ftv  2 199.0029 219.0029 15.92950 0.0003475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smoke:ui  1 186.9861 208.9861  3.91270 0.04792245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D09A-ACAA-466C-B5BF-6A7D84B91AC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hecking for linearity on </a:t>
            </a: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age</a:t>
            </a: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 within </a:t>
            </a: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ftv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n alternative to the method given in MAS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idea is to fit separate spline terms within the levels of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tv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, but keeping all other important terms (including interactions)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t is important that spline terms be chosen with enough knots to allow non-linear behaviour to become apparent, but not so much that the fit becomes nearly indeterminat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B793-05EC-432E-BEAF-970A3AD48D0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4360" y="692280"/>
            <a:ext cx="7772400" cy="53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attach(bw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BWT &lt;- expand.grid(age=14:45, lwt = mean(lwt)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race = factor("white", levels = levels(race)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smoke = c(T,F)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ptd = c(T,F)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ht = c(T,F)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ui = c(T,F)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ftv = levels(ftv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detach(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sAge &lt;- function(x)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s(x, knots = quantile(bwt$age, 1:2/3)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oundary.knots = range(bwt$age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irthwt.glm2 &lt;- glm(low ~ lwt + ptd + ht + smoke * ui + ftv/nsAge(age), binomial, bwt, trace = 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b &lt;- predict(birthwt.glm2, BWT, type = "resp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xyplot(prob ~ age | ftv, BWT, type = "l"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ubset = smoke == F &amp; ptd == F &amp; ht == F &amp; ui == F, as.table = T, ylim = c(0, 1), ylab = "Pr(Low bwt)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BD6F-6E3C-4CDC-9087-4FEC4DFFA511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395280" y="404640"/>
          <a:ext cx="7921800" cy="612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04640"/>
                    <a:ext cx="7921800" cy="61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A8E2-D14B-4034-9CC9-D419E69554CF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Distributions in the GLM family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rmal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-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Ordinary linear models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inomial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-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ogistic regression, probit analysi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oisson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-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og-linear mode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amma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-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lternative to lognormal mode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egative Binomial, &amp;c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989B-7A59-4ECD-BBAD-AC1395CAE7B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Link funct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t is assumed that the linear predictor determines the mean of the respons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linear predictor is unbounded, but the mean of some of these distributions (e.g. binomial) is restricted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mean is assumed to be a (monotone) function of the linear predicto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inverse of this function is called the link func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hoosing a link is often the first problem in constructing a GLM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78E0-3EBC-4D9F-84D6-99A8F650C6E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xampl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rmal – Identity link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inomial – Logistic or Probit link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oisson – Log or Square-root link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amma – log or inverse link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For the binomial distribution the response is taken as the proportion of cases responding.  Thus the mean lies between 0 and 1.  The logistic link us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268360" y="5084640"/>
          <a:ext cx="4824720" cy="100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5084640"/>
                    <a:ext cx="482472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0D77-69B1-4EE3-A0FA-97277A50E5D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Why is the link function defined ‘backwards’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Historical reason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LM theory was developed as a replacement for an older approximate theory that used transformations of the data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link function is defined in the same sense, but the data are never transformed.  The connection is assumed between parameter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newer theory produces exact MLEs, but apart from the normal/identity case, inference procedures are still somewhat approximat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F2AD-69C5-4AD4-9C1B-83F4A4E6342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ractic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onstructing GLMs in S-PLUS is almost entirely analogous to constructing LM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Estimation is by iteratively weighted least squares, so some care has to be taken that the iterative scheme has converged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ome tools exist for manual and automated variable selec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re are differences.  e.g. the residuals function distinguishes four types of residual which all coincide in the case of linear model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0691-FD5D-4FA1-96EF-18996AF8531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 Unicode MS"/>
              </a:rPr>
              <a:t>The budworm data – a toxicological experiment</a:t>
            </a:r>
            <a:endParaRPr b="0" lang="en-US" sz="2800" spc="-1" strike="noStrike">
              <a:solidFill>
                <a:srgbClr val="990033"/>
              </a:solidFill>
              <a:latin typeface="Arial Unicode MS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4360" y="1341360"/>
          <a:ext cx="7770600" cy="474660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4120"/>
                <a:gridCol w="1554120"/>
                <a:gridCol w="15541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Courier New"/>
                          <a:ea typeface="Arial"/>
                        </a:rPr>
                        <a:t>D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Courier New"/>
                          <a:ea typeface="Arial"/>
                        </a:rPr>
                        <a:t>S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Courier New"/>
                          <a:ea typeface="Arial"/>
                        </a:rPr>
                        <a:t>D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Courier New"/>
                          <a:ea typeface="Arial"/>
                        </a:rPr>
                        <a:t>Al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Courier New"/>
                          <a:ea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25F4-1B6C-4360-B331-1A2401D09FF0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 initial example: Budworm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Preparing the data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options(contrasts = c("contr.treatment", "contr.poly"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ldose &lt;- rep(0:5, 2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numdead &lt;- c(1, 4, 9, 13, 18, 20,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0, 2, 6, 10, 12, 16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sex &lt;- factor(rep(c("M", "F"), each = 6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SF &lt;- cbind(numdead, numalive = 20 - numdead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Budworms &lt;- data.frame(ldose, sex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Budworms$SF &lt;- SF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rm(sex, ldose, SF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B52B-4097-4F87-9CFB-CF78F7D0E1C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8-14T02:14:34Z</dcterms:modified>
  <cp:revision>15</cp:revision>
  <dc:subject/>
  <dc:title>S-PLUS, An Introduction to the System</dc:title>
</cp:coreProperties>
</file>