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9D1-B46A-4A66-956C-43FAFF6C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2FF-223B-4E09-9FBA-A45D64E8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104-9AE5-4D14-A7D0-A3E26918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F8A-A1BD-48EF-901D-A2442FC3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F3F-57E4-4DCD-848D-BF834BE5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DED-2679-4616-8798-C9E76F0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4AA-6DDA-410A-8702-95E8299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5BB-EB1B-418D-9E4A-F7C67952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BAA-274C-4013-B9FA-B81A63C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7B7-467D-46DB-8D16-57DEDE8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2D5-993C-460F-840D-9ED590D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D54-AD3C-4DAF-9958-308CDC5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1E4375-990F-4187-BC81-B900E8B3B69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9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wtloss$Day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*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wt.lm1, data.frame(Days = rg[1] + 1:3*del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del*log(2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Weight ~ I(2^(-Days/t0)), wtlo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 &lt;- 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1 &lt;- nls(Weight ~ b0+b1*2^(-Days/tau), wtloss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nit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46115 :   82.51384 101.67121 139.21188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85 :   81.39093 102.66630 141.8709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76 102.68416 141.9104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82F-7235-4A5C-90C5-9655CCE687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50920" y="2421000"/>
          <a:ext cx="532944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532944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79480" y="141300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data.frame(Days = 0:7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$Weight &lt;- predict(wt.nls1, t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tmp, type="l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A44-AE4F-48D3-8374-97D58476DB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menting it inside a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val &lt;- function(y, x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ith(wtloss, ival(Weight, Day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b0       b1      tau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81.3299 102.7232 142.01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2CD-8814-4E57-A62C-8364B4AB46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rivativ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non-linear least squares fitting algorithm can use first derivatives if they are availabl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regression function must be an S function that returns the values with the derivatives as an attribut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re is an important tool for doing the differentiation and providing the function in one step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gexp &lt;- deriv(~ b0 + b1*2^(-x/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("b0", "b1", "tau"),function(x, b0, b1, tau) {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.nls2 &lt;- nls(Weight ~ negexp(Days, b0, b1, 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loss, start = with(wtloss, ival(Weight, Days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501 :   81.3299 102.7232 142.01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40 102.6840 141.90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F43-4229-4D78-BF51-C4A50B010E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negex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function (x, b0, b1, tau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expr3 &lt;- 2^(-x/tau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 &lt;- b0 + b1 *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 &lt;- array(0, c(length(.value), 3L), list(NULL, c("b0", "b1", "tau"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0"] &lt;-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1"] &lt;-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tau"] &lt;- b1 * (.expr3 * (log(2) * (x/tau^2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attr(.value, "gradient") &lt;- .gra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29A-AE88-4389-A5B4-D9E11EC8D3C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it all together: Self-starte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(S-)function may also include an attribute giving an algorithm for finding initial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is is possible, it makes fitting such non-linear models very convenient, and if the initial value routine is good, very secu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riting such a self-starting regression function requires us to use some obscure conventions.  This is necessary because it has to cohere to the model fitting function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about to write a function that will not be called by us, but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ls(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0FF-5E54-4574-BE49-0C34BA4EA4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ival &lt;- function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mCall, data, LH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y ~ b0 + b1*2^(-x/tau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x &lt;- eval(mCall[["x"]]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y &lt;- eval(LHS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 &lt;- list(ab[1], ab[2],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names(pars) &lt;- mCall[c("b0", "b1", "tau")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5CF-2D2A-4B9B-B7EA-5C766E60A69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negexp &lt;- selfStart(model = ~ b0 + b1*2^(-x/tau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= SSival, parameters = c("b0", "b1", "tau"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mplate = function(x, b0, b1, tau) {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3 &lt;- nls(Weight ~ SSnegexp(Days, a, b, t), wtlos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501 :   81.3299  102.7232  142.014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40  102.6840  141.909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pretty good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6D9-F465-4D25-B2DB-1949267E07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weight loss data: summa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wt.nls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 Weight ~ SSnegexp(Days, a, b,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er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81.374    2.26899 35.863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102.684    2.08275 49.302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141.910    5.29449 26.80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standard error: 0.894937 on 49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rrelation of Parameter Estimate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    b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-0.989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-0.986  0.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261-4F79-4B17-A63A-5DAE278053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Stormer Viscome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is of the fo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gnoring the error, simplifying and re-writing giv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t is easy: regress y = wT on x1 = V and x2 = T with no intercep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2205000"/>
          <a:ext cx="2376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237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9280" y="3573360"/>
          <a:ext cx="32605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573360"/>
                    <a:ext cx="32605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0D0-343A-4D59-AA1A-DC3417F077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weight lo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676800" y="141300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wt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97708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CBF-42F2-406F-9FF7-94421A1C4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out the stormer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Sival.storm &lt;- function(mCall, data, LHS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y ~ b*x1/(x2-the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1 &lt;- eval(mCall[["x1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2 &lt;- eval(mCall[["x2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 &lt;- eval(LHS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 &lt;- lsfit(cbind(x1, y), x2*y, int = F)$coe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cf) &lt;- mCall[c("b", "theta")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 &lt;- selfStart(model = ~ b*x1/(x2-theta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itial = SSival.storm, parameters = c("b", "theta"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 = function(x1, x2, b, theta) {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.nls1 &lt;- nls(Time ~ storm(Viscosity, Wt, beta, tau), stormer, trace=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85.3645 :  28.875541  2.843728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1098 :  29.393464  2.23327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327  2.21822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257  2.218274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D45-5C40-4889-98A6-B616C646AB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fidence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rginal intervals are available as estimate 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± 2SE in much the same way as LM/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Joint intervals are sometimes useful.  These need to be constructed individual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Profiling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can also be used to find likelihood ratio intervals and to give some idea of join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ehaviour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of the estimat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nls1$call$trace &lt;- FALSE # turn off the trac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pf &lt;- profile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ot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s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BDD-87BB-4368-9DCF-8ECA433383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018720" cy="46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13E-9DDB-4890-A9C4-247F0BE92C7F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C74-5C2F-4AEE-9855-80255BF6B1F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haviour of the log-likelihood surface near the MLE appears to be quadratic, implying that the approximate confidence intervals are probably reason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arameter estimates are highly correla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more detailed behaviour we need to look at the bivariate surface direc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A56-2180-4B40-98D8-19C404901A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6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 &lt;- sqrt(diag(vcov(storm.nls1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seq(-5, 5, length = 10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 &lt;- expand.grid(beta = b[1] + del*se[1], tau = b[2] + del*se[2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gfn &lt;- with(storm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Viscosity, Stm$beta)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Wt, Stm$tau, "-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 &lt;- matrix(stormer$Time, nrow(stormer), nrow(Stm)) - Regf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colSums(res*res)/1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with(Stm, log10(1 + RSS - min(R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plot(RSS ~ beta + tau, Stm, contour = TRUE, pretty = TRU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.regions = rev(heat.colors(100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 &lt;- round(quantile(Stm$RSS,0:10/10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ourplot(RSS ~ beta+tau, Stm, at=con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361-DCFC-4902-8992-A2DC5DA0421F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280-285E-4936-8224-00F473E8606D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85D-8573-4DBD-BBCF-3FBDA1C07CA0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possible ways of using bootstrap ideas on non-linear regress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observations themselves: Could lead to cases where the model is non-estim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residuals, centred or uncentr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Bayesian bootstrap”: give each observation a variable weight (as the ordinary bootstrap does) and vary the weights.  It can be shown that an exp(1) weight is appropriate.  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Rubin, D. B. (1981). The Bayesian Bootstrap. </a:t>
            </a:r>
            <a:r>
              <a:rPr b="0" i="1" lang="en-GB" sz="1800" spc="-1" strike="noStrike">
                <a:solidFill>
                  <a:srgbClr val="3333cc"/>
                </a:solidFill>
                <a:latin typeface="Arial Unicode MS"/>
              </a:rPr>
              <a:t>Annals of Statistics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</a:t>
            </a:r>
            <a:r>
              <a:rPr b="1" lang="en-GB" sz="1800" spc="-1" strike="noStrike">
                <a:solidFill>
                  <a:srgbClr val="3333cc"/>
                </a:solidFill>
                <a:latin typeface="Arial Unicode MS"/>
              </a:rPr>
              <a:t>9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130-1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B94-9525-4BFF-B8F1-018D1ABC71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demonstration: the weights are “about right”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 &lt;- v &lt;- numeric(1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j in 1:100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factor(sample(1:50, 50, rep = T), levels = 1:5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table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[j] &lt;- mean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[j] &lt;- var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v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.01306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v &lt;- rexp(5000, 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89904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6230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A84-3D78-4249-B716-B89990C627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al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lynomial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– too pessimistic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ubic – no evidence yet of an inflex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vantag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evidence from dietary the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ear advantages in short-term extrapol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sadvantage: harder to fi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3573360"/>
          <a:ext cx="460836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46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0A7-6D37-4CC9-A26E-B96D558D79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rexp(nrow(stormer),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p &lt;- try(update(storm.nls1, weights = w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colMeans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] 29.344850  2.27803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var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,]  0.3468216 -0.309030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2,] -0.3090304  0.37185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445-5289-4BF5-B42C-86AA009EBE3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s &lt;- scale(resid(storm.nls1), scale = 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t &lt;- stormer$Time - 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hisY &lt;- as.vector(yt + sample(rs, rep = 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mp &lt;- try(update(storm.nls1, ThisY ~ .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colMeans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] 30.10174  1.947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var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,]  0.7475719 -0.495094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2,] -0.4950940  0.38826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EA2-E5ED-492D-A3CC-DBAF85C7622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Final compari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09367 0.932128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0.52142 3.380051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1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37939 0.723661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1.69766 3.111560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tau &lt;- qt(0.975, nrow(stormer)-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b &lt;- coef(storm.nls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se &lt;- sqrt(diag(vcov(storm.nls1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rbind(b - tau*se, b + tau*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eta      tau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,] 27.49730 0.83424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,] 31.30521 3.6023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C7B-F00C-4714-A248-D05DF7348D3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confidence intervals for the parameters can be relatively straightforward, if the model is small and the data set manage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"Tests of fit" are not automatically available.  Graphical examination of residuals is important here, as elsew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685-AC27-44D1-B38F-FC54CD06847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mpirical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lm1 &lt;- lm(Weight ~ poly(Days, 3)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ith(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ays = seq(min(Days), max(Days), len = 1000), Weight = NA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rbind(Wtloss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tloss[order(Wtloss$Days),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$pWeight &lt;- predict(wt.lm1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brary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Weight ~ Days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ines(x, Wtloss$pWeight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A5E-5A91-4B8C-A7A9-E3E81CDE0B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4E5-32A3-4D16-98BF-735B2EBEB73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523080" y="12477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0:700, predict(wt.lm1, data.frame(Days = 0:70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ype = "l", xlab = "Days", ylab = "Weight"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wtloss, points(Days, Weight, pch = 4, col = "blue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7158" r="0" b="0"/>
          <a:stretch/>
        </p:blipFill>
        <p:spPr>
          <a:xfrm>
            <a:off x="1692360" y="2205000"/>
            <a:ext cx="5759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8EE-E4E9-4EEC-9C94-64F45C1BC4D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algorithm: guess them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nls0 &lt;-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ls(Weight ~ b0 + b1 * 2^( - Days/tau)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rt = c(b0 = 70, b1 = 122, tau = 150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769.5897  :   70 122 15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2.10227 :   81.57397 102.48311 142.585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3 :   81.3761  102.6819  141.90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  :   81.3738  102.6841  141.9104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10E-35D4-4759-BE46-98850C247F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trapolation under the non-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50400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nes(0:700, predict(wt.nls0, data.frame(Days = 0:70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= "green4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h = coef(wt.nls0)[1], lty = "dashed", col = "blu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128680"/>
            <a:ext cx="62643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65E-C655-43FE-8B9C-993B15F8337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algorithm: calculate approximate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2492280"/>
          <a:ext cx="439272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4392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8FE-B15B-4863-8211-316C5A9E9A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2:26:14Z</dcterms:modified>
  <cp:revision>27</cp:revision>
  <dc:subject/>
  <dc:title>S-PLUS, An Introduction to the System</dc:title>
</cp:coreProperties>
</file>