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B7D-EE64-493E-8327-E9DCAA5E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7EF3-DC9E-49B2-8371-6A02F6C8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BE2E-D721-4487-BF0E-A42A4F7F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A11D-FE6D-4444-B4DC-C29CB29D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CE09-A0E8-4011-9C63-C4EB5CCF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3819-C4A5-408E-8765-27E90677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0F65-5BC8-453F-BF7F-3ABFEB5A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80E-3FA3-4CA3-96E2-E8ECE977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7E57-ADBF-4493-8684-EDCD34AE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59D8-78A7-4C74-AA2D-625DCE1A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E36E-3922-4311-A33C-14D8971B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D0DA-AA0F-4B15-B5EE-2C4EF93C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0CE958C-4BC8-4C02-82FE-A5E741194A20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0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near Mixed Effects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trol.lme &lt;- lme(Y ~ SG + VP + V10 + EP, data = petrol, random = ~1 | No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mmary(petrol.lm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Linear mixed-effects model fit by REML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Random effects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ormula: ~1 | No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Residual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dDev:    1.444741 1.87220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xed effects: Y ~ SG + VP + V10 + EP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alue Std.Error DF   t-value p-valu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6.134791 14.554171 21 -0.421514  0.677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G           0.219398  0.146938  6  1.493136  0.186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P           0.545863  0.520528  6  1.048673  0.33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10         -0.154243  0.039962  6 -3.859697  0.008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         0.157177  0.005588 21 28.127561  0.0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B83-3C0B-4C8F-9A82-6F9160A3D79F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omparison with previous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nd(summary.lm(petrol.lm3)$coef, 5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Courier New"/>
              </a:rPr>
              <a:t> 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stimate Std. Error  t value Pr(&gt;|t|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6.82077   10.12315 -0.67378  0.5061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G           0.22725    0.09994  2.27390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0311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P           0.55373    0.36975  1.49756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14585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10         -0.14954    0.02923 -5.11597  0.00002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         0.15465    0.00645 23.99221  0.00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xed effects: Y ~ SG + VP + V10 + EP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alue Std.Error DF   t-value p-value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6.134795  14.55411 21  -0.42152  0.677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G  0.219398   0.14694  6   1.49314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186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P  0.545863   0.52053  6   1.04868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33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10 -0.154243   0.03996  6  -3.85971  0.008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0.157177   0.00559 21  28.12753  &lt;.000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3645000"/>
            <a:ext cx="777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465-4474-4C6F-9DFA-EBDBF77E4DE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Shrinkag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dat &lt;- with(petrol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expand.grid(No = levels(No), SG = mean(SG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VP = mean(VP), V10=mean(V10), EP = mean(EP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fixM &lt;- predict(petrol.lm2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ranM &lt;- predict(petrol.lme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conM &lt;- predict(petrol.lm3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X &lt;- rbind(cbind(1,fixM), cbind(2,ranM), cbind(3,conM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plot(X, axes = F, ann = 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egments(1,fixM, 2,ran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egments(2,ranM, 3,con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55E9-4CB8-42A8-B83E-1C9677018FB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77880" y="434880"/>
            <a:ext cx="5989680" cy="5989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02640" y="73332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xed ef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21320" y="2317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ndom + 3 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43280" y="3573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18B4-A964-461B-AA79-ECDD6690C824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dding random slopes as wel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deviation from parallel regressions was not significant, but still somewhat suspiciou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might consider making both the intercept and the slope have a random componen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etrol.lme2 &lt;- lme(Y ~ SG + VP + V10 + EP, data = petrol,random = ~ 1 + EP | No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mmary(petrol.lme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1665-BB7F-43CD-8D88-DAD4F9B405A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772400" cy="56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Random effects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ormula: ~1 + EP | No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ructure: General positive-definite, Log-Cholesky parametrization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dDev      Corr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1.725640232 (Intr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        0.003283688 -0.535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Residual    1.854119617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xed effects: Y ~ SG + VP + V10 + EP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alue Std.Error DF   t-value p-valu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6.229186 14.632337 21 -0.425714  0.674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G           0.219109  0.147941  6  1.481050  0.189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P           0.548118  0.523123  6  1.047781  0.335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10         -0.153940  0.040213  6 -3.828130  0.008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         0.157248  0.005666 21 27.753481  0.0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9E8D-15F2-4A73-877C-80534E977F9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: The petroleum data of N H Prater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10 samples of crude oi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artitioned and tested for yield at different “end points”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samples themselves are classified by specific gravity (SG), vapour pressure (VP) and volatility as measured by the ASTM 10% point (V10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lem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stimate the rate of rise in yield with end poin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an we explain differences between samples in terms of external measure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63A0-6B6C-4CB3-A4FD-15BB7B6D2FC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petrol data displayed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yplot(Y ~ EP | No, petrol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anel.lmline(x, y, col = 3, lty = 4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s.table = T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spect = "xy"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lab = "End point"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lab = "Yield (%)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02EF-682C-43FC-9616-3B060997EC5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476280"/>
          <a:ext cx="7848720" cy="60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76280"/>
                    <a:ext cx="7848720" cy="60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5831-9000-488F-84F3-491D70F14AEE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an the slopes be regarded as parallel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etrol.lm1 &lt;- aov(Y ~ No/EP, petrol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etrol.lm2 &lt;- aov(Y ~ No + EP, petrol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nova(petrol.lm2, petrol.lm1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nalysis of Variance Tabl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esponse: Y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erms Resid. Df      RSS    Test Df Sum of Sq  F Value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1 No + EP        21 74.1319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2 No/EP          12 30.32915 1 vs. 2  9  43.80284 1.925665 0.143904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Ye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AB8-E13F-4124-9633-042B9387287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an we explain differences in intercepts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etrol.lm3 &lt;- aov(Y ~ . - No, petrol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nova(petrol.lm3, petrol.lm2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nalysis of Variance Tabl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esponse: Y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erms Resid. Df     RSS    Test Df Sum of Sq  F Value 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1 SG + VP +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V10 + EP       27 134.804                      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2 No + EP        21  74.132 1 vs. 2  6  60.67197 2.864511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0336811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oks doubtful, but how close is it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5E7-C14A-4269-8F85-0775E69911C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ooking at all three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mp &lt;- update(petrol.lm2, .~.-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0 &lt;- predict(tmp, type="terms")[, "No"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0 &lt;- coef(tmp)["EP"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 &lt;- cbind(1, petrol$SG, petrol$VP, petrol$V10) %*%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ef(petrol.lm3)[1:4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 &lt;- coef(petrol.lm3)["EP"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lette(c("red", "blue", "orange"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Y ~ EP | No, petrol, subscripts = T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 = function(x, y, subscripts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lmline(x, y, col = 3, lty = 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abline(a0[subscripts][1], b0, col = 4, lty = 4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abline(a[subscripts][1], b, col = 5, lty = 5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, as.table = T, aspect = "xy", xlab = "End point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ylab = "Yield (%)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FA4A-773B-4D07-B242-1B940830F92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769080" cy="67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2E3B-73C8-4EF8-8405-A818870C3E6B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dding a random ter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external (sample-specific) variables explain much of the differences between the intercepts, but there is still significant variation between samples unexplain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ne natural way to model this is to assume that, in addition to the systematic variation between intercepts explained by regression on the external variables, there is a random term as well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assume this term to be normal with zero mean.  Its variance measures the extent of this additional vari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7312-20B9-425E-A628-5BAAE5CC512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0:35Z</dcterms:modified>
  <cp:revision>13</cp:revision>
  <dc:subject/>
  <dc:title>S-PLUS, An Introduction to the System</dc:title>
</cp:coreProperties>
</file>