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3C57E-01B3-4E3B-95E9-6FC0FF274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9848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53950-AB3A-4931-89F5-A6C0C29D5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BAF35-521D-4F56-A4C7-381BA3CFE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7C3A6-2359-421E-9FD2-48DDB1DA0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676B8-2B15-4DFC-ACB6-CDE65AF8A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D8451-D3C1-4E24-A9F6-0B22B7CD9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1457F-73ED-44ED-9EEC-EC011C4E7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BC309-A5A9-4AFB-8DA0-7D8388746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B6C26-8AC3-48F0-8DFA-49343A492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A502A-B75F-4928-98C2-5356669ED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CFF73-ACD7-404C-8B74-9710425EE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896F4-5B72-4426-8E5F-8C692C961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AU" sz="1000" spc="-1" strike="noStrike">
                <a:solidFill>
                  <a:srgbClr val="006600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AU" sz="1000" spc="-1" strike="noStrike">
                <a:solidFill>
                  <a:srgbClr val="006600"/>
                </a:solidFill>
                <a:latin typeface="Book Antiqu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GB" sz="1000" spc="-1" strike="noStrike">
                <a:solidFill>
                  <a:srgbClr val="006600"/>
                </a:solidFill>
                <a:latin typeface="Book Antiqu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000" spc="-1" strike="noStrike">
                <a:solidFill>
                  <a:srgbClr val="006600"/>
                </a:solidFill>
                <a:latin typeface="Book Antiqu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7019640" y="62373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1" lang="en-GB" sz="1400" spc="-1" strike="noStrike">
                <a:solidFill>
                  <a:srgbClr val="006600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660D290D-7163-476C-BD6D-832FAAB3D178}" type="slidenum">
              <a:rPr b="1" lang="en-GB" sz="1400" spc="-1" strike="noStrike">
                <a:solidFill>
                  <a:srgbClr val="006600"/>
                </a:solidFill>
                <a:latin typeface="Book Antiqu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Arial Unicode MS"/>
              </a:rPr>
              <a:t>Click to edit the title text format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8458200" y="0"/>
            <a:ext cx="685800" cy="819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Session 08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GAMs an Introduction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Speculative comments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Temp4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: Two very hot years had crop damage during harvest?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Rain0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: Wide range where little difference, but very dry years may lead to a reduced yield and very wet years to an enhanced one?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Rain2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: One very dry growing month led to a reduced yield?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Year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: Strongest and most consistent predictor by far.  Some evidence of a pause in new varieties during the war and immediately post-war period?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2F36C-22B6-48EB-B1A7-5C8EEE0E928B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Tentative inference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836640"/>
            <a:ext cx="7772400" cy="561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&gt; summary(iowa.gam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Family: gaussian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Link function: identity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Formula: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Yield ~ s(Temp4, k = 5) + s(Rain0, k = 5) + s(Rain2, k = 5) +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s(Year, k = 5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Parametric coefficients: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            </a:t>
            </a: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Estimate Std. Error t value Pr(&gt;|t|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(Intercept)   50.000      1.035   48.32   &lt;2e-16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Approximate significance of smooth terms: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           </a:t>
            </a: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edf Est.rank      F  p-value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s(Temp4) 2.303        4  4.067   0.0124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s(Rain0) 2.686        4  2.343   0.0852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s(Rain2) 1.000        1  1.682   0.2076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s(Year)  3.180        4 14.477 5.02e-06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R-sq.(adj) =  0.797   Deviance explained = 85.5%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GCV score = 51.074   Scale est. = 35.334    n = 33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DED9F-DB2A-4712-BABD-1211C81C0F90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Can we get to the same place with GLMs?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Spline terms: specified with ns(x, …) or bs(x, …), differ only in behaviour near the end points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May specify the knot and boundary knot positions (recommended if prediction will be needed) or the equivalent degrees of freedom (OK for exploratory purposes)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Each spline term is a collection of ordinary linear terms, but the coefficients have no simple meaning and the individual significance tests are meaningless.  Best regarded as a single composite term and retained or removed as a block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7870F-2B0D-439D-B933-28038FE6ACE1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31640" y="758880"/>
            <a:ext cx="8280720" cy="533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library(splines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iowa.ns &lt;- lm(Yield ~ ns(Temp4, df=3) + ns(Rain0, df=3) + ns(Rain2, df = 3) + ns(Year, df=3), Iowa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termplot(iowa.ns, se=T, partial.resid = T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dropterm(iowa.ns, test = "F", k = log(nrow(Iowa))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Single term deletions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Model: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Yield ~ ns(Temp4, df = 3) + ns(Rain0, df = 3) + ns(Rain2, df = 3) +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ns(Year, df = 3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                  </a:t>
            </a: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Df Sum of Sq     RSS     AIC F Value     Pr(F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&lt;none&gt;                          726.26  147.47                 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ns(Temp4, df = 3)  3    274.60 1000.86  147.56    2.52   0.08706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ns(Rain0, df = 3)  3    332.31 1058.57  149.41    3.05   0.05231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ns(Rain2, df = 3)  3     70.61  796.87  140.04    0.65   0.59327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ns(Year, df = 3)   3   2022.93 2749.19  180.91   18.57 5.339e-06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E1EE4-2023-4FFE-999D-EE45B1051967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971640" y="0"/>
            <a:ext cx="6767280" cy="6767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F6BBF-797D-4517-926B-36876EAC4143}" type="slidenum">
              <a:t>14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971640" y="0"/>
            <a:ext cx="6769080" cy="6769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095E5-37DE-49BB-934D-8C44B8FEFFCB}" type="slidenum">
              <a:t>1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Final remarks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Very similar pattern to the components as for the additive mod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Now clear that the term in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Rain2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 is not useful and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Temp4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 and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Rain0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 terms will need to be re-assessed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The term in Year stands out as dominant with a clear pattern in the response curve and the partial residuals following it closely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99"/>
                </a:solidFill>
                <a:latin typeface="Arial Unicode MS"/>
              </a:rPr>
              <a:t>Small data sets like this can be very misleading!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  Extreme caution is needed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DE1A5-84AF-469C-9AB6-8B96127E52EF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Second example: Rock data (V&amp;R p. 233 ff)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1700280"/>
            <a:ext cx="7772400" cy="433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 Unicode MS"/>
              </a:rPr>
              <a:t>Response: permeability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 Unicode MS"/>
              </a:rPr>
              <a:t>Predictors: area, perimeter and shape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 Unicode MS"/>
              </a:rPr>
              <a:t>Problem: build a predictor for log(perm) using the available predictors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rock.lm &lt;- lm(log(perm) ~ area + peri + shape, data = rock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summary(rock.lm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Coefficients: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              </a:t>
            </a: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Value Std. Error t value Pr(&gt;|t|)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(Intercept)  5.3331  0.5487     9.7200  0.0000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       </a:t>
            </a: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area  0.0005  0.0001     5.6021  0.0000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       </a:t>
            </a: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peri -0.0015  0.0002    -8.6228  0.0000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      </a:t>
            </a: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shape  1.7565  1.7559     1.0003  0.3226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78698-E5D4-4CBF-9A77-1DBCCE638E4F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Strategy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700280"/>
            <a:ext cx="7772400" cy="433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rock.gam &lt;- gam(log(perm) ~ s(area) + s(peri) + s(shape),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control = gam.control(maxit = 50), data = rock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summary(rock.gam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anova(rock.lm, rock.gam) </a:t>
            </a:r>
            <a:r>
              <a:rPr b="0" lang="en-AU" sz="2000" spc="-1" strike="noStrike">
                <a:solidFill>
                  <a:srgbClr val="ff0000"/>
                </a:solidFill>
                <a:latin typeface="Courier New"/>
              </a:rPr>
              <a:t># shows no improvement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par(mfrow = c(2, 3), pty = "s"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plot(rock.gam, se = T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rock.gam1 &lt;- gam(log(perm) ~ area + peri + s(shape), data = rock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plot(rock.gam1, se = T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anova(rock.lm, rock.gam1, rock.gam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AE92B-1AFF-41A1-9E72-15D97E7290B1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684360" y="62028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&gt; summary(rock.gam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Family: gaussian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Link function: identity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Formula: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log(perm) ~ s(area) + s(peri) + s(shape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Parametric coefficients: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Estimate Std. Error t value Pr(&gt;|t|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(Intercept)   5.1075     0.1222   41.81   &lt;2e-16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Approximate significance of smooth terms: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edf Est.rank      F  p-value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s(area)  1.000        1 29.878 2.09e-06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s(peri)  1.000        1 72.664 7.77e-11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s(shape) 1.402        3  1.324    0.279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R-sq.(adj) =  0.735   Deviance explained = 75.4%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GCV score = 0.78865   Scale est. = 0.71631   n = 48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972AA-8BEA-4FE1-86EC-190EC2EC8467}" type="slidenum">
              <a:t>1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Overview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Model assumes that the mean response is a sum of terms each depending on (usually) a single predictor: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if the     s are linear terms, this is just regression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if they are step functions – main effect of a factor term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in general they may be smooth terms, with the degree of smoothness chosen by cross validation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2411280" y="2637000"/>
          <a:ext cx="2880000" cy="850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11280" y="2637000"/>
                    <a:ext cx="2880000" cy="85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"/>
          <p:cNvGraphicFramePr/>
          <p:nvPr/>
        </p:nvGraphicFramePr>
        <p:xfrm>
          <a:off x="1835280" y="3357720"/>
          <a:ext cx="307800" cy="504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35280" y="3357720"/>
                    <a:ext cx="30780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34490-2E69-4B72-9779-2F48FD8A5CB0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990033"/>
                </a:solidFill>
                <a:latin typeface="Arial Unicode MS"/>
              </a:rPr>
              <a:t>Testing lm within a gam model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&gt;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nova(rock.lm, rock.gam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nalysis of Variance Table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Model 1: log(perm) ~ area + peri + shape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Model 2: log(perm) ~ s(area) + s(peri) + s(shape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s.Df    RSS       Df Sum of Sq      F Pr(&gt;F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1 44.00000 31.949                                 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2 43.59763 31.230  0.40237     0.719 2.4951 0.1250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BC180-A673-4CD1-8FA1-A17AF3353901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685800" y="404280"/>
            <a:ext cx="7772400" cy="569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99"/>
                </a:solidFill>
                <a:latin typeface="Courier New"/>
              </a:rPr>
              <a:t>&gt; </a:t>
            </a:r>
            <a:r>
              <a:rPr b="1" lang="en-AU" sz="1800" spc="-1" strike="noStrike">
                <a:solidFill>
                  <a:srgbClr val="000099"/>
                </a:solidFill>
                <a:latin typeface="Courier New"/>
              </a:rPr>
              <a:t>summary(rock.gam1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99"/>
                </a:solidFill>
                <a:latin typeface="Courier New"/>
              </a:rPr>
              <a:t>Family: gaussian 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99"/>
                </a:solidFill>
                <a:latin typeface="Courier New"/>
              </a:rPr>
              <a:t>Link function: identity 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99"/>
                </a:solidFill>
                <a:latin typeface="Courier New"/>
              </a:rPr>
              <a:t>Formula: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99"/>
                </a:solidFill>
                <a:latin typeface="Courier New"/>
              </a:rPr>
              <a:t>log(perm) ~ area + peri + s(shape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99"/>
                </a:solidFill>
                <a:latin typeface="Courier New"/>
              </a:rPr>
              <a:t>Parametric coefficients: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99"/>
                </a:solidFill>
                <a:latin typeface="Courier New"/>
              </a:rPr>
              <a:t>              </a:t>
            </a:r>
            <a:r>
              <a:rPr b="1" lang="en-AU" sz="1800" spc="-1" strike="noStrike">
                <a:solidFill>
                  <a:srgbClr val="000099"/>
                </a:solidFill>
                <a:latin typeface="Courier New"/>
              </a:rPr>
              <a:t>Estimate Std. Error t value Pr(&gt;|t|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99"/>
                </a:solidFill>
                <a:latin typeface="Courier New"/>
              </a:rPr>
              <a:t>(Intercept)  5.747e+00  3.615e-01  15.896  &lt; 2e-16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99"/>
                </a:solidFill>
                <a:latin typeface="Courier New"/>
              </a:rPr>
              <a:t>area         4.727e-04  8.648e-05   5.466 2.09e-06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99"/>
                </a:solidFill>
                <a:latin typeface="Courier New"/>
              </a:rPr>
              <a:t>peri        -1.505e-03  1.766e-04  -8.524 7.77e-11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99"/>
                </a:solidFill>
                <a:latin typeface="Courier New"/>
              </a:rPr>
              <a:t>Approximate significance of smooth terms: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99"/>
                </a:solidFill>
                <a:latin typeface="Courier New"/>
              </a:rPr>
              <a:t>           </a:t>
            </a:r>
            <a:r>
              <a:rPr b="1" lang="en-AU" sz="1800" spc="-1" strike="noStrike">
                <a:solidFill>
                  <a:srgbClr val="000099"/>
                </a:solidFill>
                <a:latin typeface="Courier New"/>
              </a:rPr>
              <a:t>edf Est.rank     F p-value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99"/>
                </a:solidFill>
                <a:latin typeface="Courier New"/>
              </a:rPr>
              <a:t>s(shape) 1.402        3 1.324   0.279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99"/>
                </a:solidFill>
                <a:latin typeface="Courier New"/>
              </a:rPr>
              <a:t>R-sq.(adj) =  0.735   Deviance explained = 75.4%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99"/>
                </a:solidFill>
                <a:latin typeface="Courier New"/>
              </a:rPr>
              <a:t>GCV score = 0.78865   Scale est. = 0.71631   n = 48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C6B60-9E0B-49D7-B066-FEF9E6543C27}" type="slidenum">
              <a:t>2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rcRect l="0" t="7898" r="0" b="54814"/>
          <a:stretch/>
        </p:blipFill>
        <p:spPr>
          <a:xfrm>
            <a:off x="179280" y="0"/>
            <a:ext cx="8496360" cy="31687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rcRect l="0" t="54784" r="0" b="6094"/>
          <a:stretch/>
        </p:blipFill>
        <p:spPr>
          <a:xfrm>
            <a:off x="250920" y="2997360"/>
            <a:ext cx="8424720" cy="3295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ED789-8D08-4164-A7A8-E3D9D375EB50}" type="slidenum">
              <a:t>2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Arial Unicode MS"/>
              </a:rPr>
              <a:t>Comparing 3 models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&gt; anova(rock.lm, rock.gam1, rock.gam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Analysis of Variance Table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Model 1: log(perm) ~ area + peri + shape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Model 2: log(perm) ~ area + peri + s(shape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Model 3: log(perm) ~ s(area) + s(peri) + s(shape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       </a:t>
            </a: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Res.Df    RSS          Df  Sum of Sq      F    Pr(&gt;F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1  4.4000e+01 31.949                                       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2  4.3598e+01 31.230  4.0237e-01      0.719 2.4951    0.1250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3  4.3598e+01 31.230 -3.5094e-06 -5.028e-06 2.0001 2.107e-05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&gt;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AF712-D6D3-42D8-B74C-945B9F90530C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Lessons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Although suggestive, the curve in shape is not particularly convincing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In this case,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bruto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 also suggests essentially linear terms, at most, in all three variables (V&amp;R p 235)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F9564-0706-4419-972F-7B54D7FF1283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Choices of terms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In some cases the additive terms may be known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Smoothing splines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Local regression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Splines with fixed degrees of freedom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Splines with known knots and boundary knot positions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Harmonic terms, &amp;c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0F763-AF59-4D63-B13F-976DD4116B41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86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Similarities to, and differences from GLMs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557000"/>
            <a:ext cx="7772400" cy="447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499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 Unicode MS"/>
              </a:rPr>
              <a:t>Additive models are analogous to regression models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29040" indent="-329040">
              <a:spcBef>
                <a:spcPts val="499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 Unicode MS"/>
              </a:rPr>
              <a:t>Generalized additive models are akin to the GLMs – they may employ a link function to relate the linear predictor to the mean of the response, they may have a non-normal distribution, &amp;c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29040" indent="-329040">
              <a:spcBef>
                <a:spcPts val="499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 Unicode MS"/>
              </a:rPr>
              <a:t>Fitting GAMs is the same process as fitting GLMs (but with one letter different in the function name).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29040" indent="-329040">
              <a:spcBef>
                <a:spcPts val="499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 Unicode MS"/>
              </a:rPr>
              <a:t>The fitting process is NOT maximum likelihood if there are any smoother terms present.  A likelihood penalized by a roughness term is maximised, with the tuning constant chosen (usually) by cross-validation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29040" indent="-329040">
              <a:spcBef>
                <a:spcPts val="499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 Unicode MS"/>
              </a:rPr>
              <a:t>Inference for GAMs is difficult and somewhat contentious.  Best regarded as an exploratory technique with standard models to follow (see examples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2B831-80F1-4B1B-B339-24E9A12D4619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Example: the Iowa wheat yield data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A toy example from </a:t>
            </a:r>
            <a:r>
              <a:rPr b="0" lang="en-GB" sz="1800" spc="-1" strike="noStrike">
                <a:solidFill>
                  <a:srgbClr val="000099"/>
                </a:solidFill>
                <a:latin typeface="Arial Unicode MS"/>
              </a:rPr>
              <a:t>Draper N R, and Smith H, </a:t>
            </a:r>
            <a:r>
              <a:rPr b="0" i="1" lang="en-GB" sz="1800" spc="-1" strike="noStrike">
                <a:solidFill>
                  <a:srgbClr val="000099"/>
                </a:solidFill>
                <a:latin typeface="Arial Unicode MS"/>
              </a:rPr>
              <a:t>Applied regression analysis</a:t>
            </a:r>
            <a:r>
              <a:rPr b="0" lang="en-GB" sz="1800" spc="-1" strike="noStrike">
                <a:solidFill>
                  <a:srgbClr val="000099"/>
                </a:solidFill>
                <a:latin typeface="Arial Unicode MS"/>
              </a:rPr>
              <a:t>, 2nd Ed., John Wiley &amp; Sons, New York, 1981.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Response: Yield of wheat in bushels/acre for the state of Iowa for the years 1930-1962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Predictors: Year (as surrogate), Rain0, 1, 2, 3, Temp1, 2, 3, 4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Problem: Build a predictor for Yield from the predictors available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Note: with only 33 observations and 9 possible predictors some care has to be taken in choosing a model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A66BF-0E44-4637-8535-1979E344D344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An initial linear model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72400" cy="440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iowa.lm1 &lt;- lm(Yield ~ ., Iowa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iowa.step &lt;- stepAIC(iowa.lm1, scope = list(lower =  ~ Year, upper =  ~ .), k = log(nrow(Iowa)), trace = F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dropterm(iowa.step, test = "F", k = log(nrow(Iowa)),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sorted = T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Single term deletions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Model: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Yield ~ Year + Rain0 + Rain2 + Temp4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       </a:t>
            </a: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Df Sum of Sq      RSS      AIC  F Value      Pr(F)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&lt;none&gt;              1554.605 144.6140                   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Temp4  1   187.951 1742.556 144.8838  3.38519 0.07640894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Rain0  1   196.008 1750.612 145.0361  3.53029 0.07070429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Rain2  1   240.204 1794.809 145.8589  4.32632 0.04679808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Year  1  1796.216 3350.821 166.4610 32.35167 0.00000425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2399D-4882-4E32-80C3-A6452ED3EF3E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7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Initial reflections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4360" y="1052280"/>
            <a:ext cx="7772400" cy="497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Even with the more stringent BIC penalty on model complexity, two of the terms found are only borderline significant in the conventional sense – a consequence of the small sample size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18960" indent="-31896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Nevertheless the terms found are tentatively realistic: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690840" indent="-2656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Year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: surrogate for crop improvements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690840" indent="-2656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Rain0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: a measure of pre-season sowing conditions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690840" indent="-2656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Rain2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: rainfall during the critical growing month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690840" indent="-2656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Temp4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: climatic conditions during harvesting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18960" indent="-31896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Are strictly linear terms in these variables reasonable?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2B854-0AE6-4780-A192-6047747A8476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Additive models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 Unicode MS"/>
              </a:rPr>
              <a:t>Consider a non-parametric smoother in each term: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library(mgcv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iowa.gam &lt;- gam(Yield ~ s(Temp4,k=5) + s(Rain0,k=5) + s(Rain2,k=5) + s(Year,k=5),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data = Iowa, trace=T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par(mfrow = c(2,2)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plot(iowa.gam, se = T, ylim = c(-30, 30), resid = TRUE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99"/>
                </a:solidFill>
                <a:latin typeface="Arial Unicode MS"/>
              </a:rPr>
              <a:t>It can be important to keep the y-axes of these plots approximately the same to allow comparisons between terms.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53513-FE58-4A13-A07C-D0AB9CC0DEE5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547640" y="0"/>
            <a:ext cx="6840720" cy="6840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EE9BB-86BB-4FCD-BDAA-667EBE3E5F9B}" type="slidenum">
              <a:t>9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24T03:19:39Z</dcterms:created>
  <dc:creator>Venables</dc:creator>
  <dc:description/>
  <dc:language>en-US</dc:language>
  <cp:lastModifiedBy>Venables, Bill (CMIS, Cleveland)</cp:lastModifiedBy>
  <dcterms:modified xsi:type="dcterms:W3CDTF">2007-08-21T03:13:00Z</dcterms:modified>
  <cp:revision>17</cp:revision>
  <dc:subject/>
  <dc:title>S-PLUS, An Introduction to the System</dc:title>
</cp:coreProperties>
</file>