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668-8D06-4889-85FF-876E8CCF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055-2ED9-40FC-B87B-1BD8E60B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EFE-6A83-4B90-BF2A-50DF1091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9D6-4129-4A22-9180-03DD9C71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C51-7F42-4131-9E50-7E6657CD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BA4-9C1F-4DA4-BA90-D485F14E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FE5-8843-4F3E-AEB7-1B526027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435-B926-4038-8047-728B58C3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417-A783-43E7-B0F7-19E7B374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197-C428-4CB8-9724-864D8E0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1DB-9756-4F40-995B-BA1FD739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080-83C0-4657-A84E-473A50FC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2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F5BEBD-FE83-4939-8F0C-91F5DF1CB763}" type="slidenum">
              <a:rPr b="1" lang="en-GB" sz="12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Graphics: A closer loo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anging Lattice parameters and adding key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en a Lattice device is opened, it has various colours, line-types, plotting symbols, &amp;c associated with it that any printing of Lattice objects will u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can change these choices – but it gets mess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need to know how to access this scheme if you want to set a key saying what’s wha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st to keep an example on hand that works and re-read the help information with this example in mi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F0F-39B7-4B66-B7F0-8BBE80ACD2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tting and setting Lattice p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device(x1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 &lt;- trellis.par.get("superpose.symbol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cex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0.8 0.8 0.8 0.8 0.8 0.8 0.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pch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1 1 1 1 1 1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$pch &lt;- 1: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par.set("superpose.symbol", sp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4E5-DB73-46AB-949A-E621B128568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Stormer viscometer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32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ependent variable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Independent variables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, Weigh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oretic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Plotting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should give straight lines with slope depending on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Weight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Time ~ Viscosity, stormer, groups = Wt, type = "b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Stormer viscometer calibration data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v.off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97080" y="2604960"/>
          <a:ext cx="237636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2604960"/>
                    <a:ext cx="23763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1B4-8016-4681-ADB4-FA0AD2D9EB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9BB-7DC6-4A42-9363-FF8F9B4C6BB9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the ke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xyplot(Time ~ Viscosity, stormer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groups = W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type = "b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AU" sz="3200" spc="-1" strike="noStrike">
                <a:solidFill>
                  <a:srgbClr val="000000"/>
                </a:solidFill>
                <a:latin typeface="Courier New"/>
              </a:rPr>
              <a:t>auto.key = TRUE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"Stormer viscometer calibration data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253-89D0-404A-8828-06D24F9DBA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600-0B7E-40FC-A4A1-D3ECD85673F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rtificial example: adding fitted val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 &lt;- data.frame(x = rep(1:20, 10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 = factor(rep(LETTERS[1:10], each = 20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y &lt;- (dummy$x - 10.5)^2 + rnorm(100, sd = 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m &lt;- lm(y ~ f + poly(x, 2), dummy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fitted &lt;- fitted(fm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, subscripts = T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e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st(xlim = range(x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lim = range(y, dummy$fitted[subscripts]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x = diff(range(x)), dy = diff(range(y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spline(x, dummy$fitted[subscripts]), col = 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 aspect = "xy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C33-CEE4-457D-A1FC-15941ED587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493236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236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19640" y="2252520"/>
          <a:ext cx="515304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252520"/>
                    <a:ext cx="51530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53B-555C-4CA8-BE8B-7124CDA7598B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ree-dimensional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nd("volcano.S")  </a:t>
            </a:r>
            <a:r>
              <a:rPr b="0" lang="en-GB" sz="1400" spc="-1" strike="noStrike">
                <a:solidFill>
                  <a:srgbClr val="ff0000"/>
                </a:solidFill>
                <a:latin typeface="Courier New"/>
              </a:rPr>
              <a:t># courtesy Ross Ihak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package:datasets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matrix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gt; dim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87 6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# volcano &lt;- as.matrix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&lt;- 10*(1:nrow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 &lt;- 10*(1:ncol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dat &lt;- transform(expand.grid(x = x, y = y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 = as.vector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heat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evelplot(v ~ x*y, vda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topo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ireframe(v ~ x*y, vdat, drape = 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685-6083-4168-A904-5AE69E17EF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heat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 contour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retty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opo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reframe(v ~ x*y, vdat, drape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errain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432-43FF-4C46-84AC-3B25286009F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traditional graphics, but based on it and roughly parallel to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mplementing the ideas of Bill Cleveland, and simplest to use when defaults are appropria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cremental construction is not feasible: the entire object must be constructed in a seamless oper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unctions generate Lattice objects; it is the printing of these objects that produces graphical outpu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objects may be updated, but this is not often necess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st of functions – page 91 of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B77-F2AA-4124-8B10-C6F2714330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286-728C-43D7-88DD-4A88F832B29A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632-C5F7-44CE-A29D-7E743613D28C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CA6-5CFD-4F4A-8F3D-0954CC336A5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ynamic ver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g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 &lt;- 2 * volcano     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Exaggerate the relie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x &lt;- 10 * (1:nrow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S to N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y &lt;- 10 * (1:ncol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E to W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im &lt;- range(z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en &lt;- zlim[2] - zlim[1] +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orlut &lt;- topo.colors(zlen)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color lookup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&lt;- colorlut[ z-zlim[1]+1 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assign colors to heights for each poi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en3d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urface3d(x, y, z, color=col, back="line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EFB-9845-4870-9C2A-1F9A237F6C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37B-41E2-4275-95C8-6CBF8B578EE7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DCF-DD12-4C72-B2E3-86C2DEFEC12A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16E-DDF5-4864-A21B-A5C12CD447A1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e example: the Whitesid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MA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ames(whitesid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"Insul" "Temp"  "Gas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, aspect = 0.6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dily apparent that insulation reduces the need for heating gas, but the slope is less negative with increasing temperatur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6CC-2F35-4EB0-BA8B-4FC9C2C991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F25-52EC-4577-A112-D7138BC2C91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ll in one ca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RUE, aspect = 0.61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im = c(0, max(whiteside$Gas)+0.5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ayout = c(2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6BF-16CF-4592-B677-310827E707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tra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ke sure the y-axis has a zero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im = c(0, max(whiteside$Gas)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ive proper labels to the x- and y-axes and add a main label at the top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Temperature"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de-by-side layou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ayout = c(2,1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863-3460-4322-8628-6A1FA5E028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9279" r="0" b="22570"/>
          <a:stretch/>
        </p:blipFill>
        <p:spPr>
          <a:xfrm>
            <a:off x="611280" y="620640"/>
            <a:ext cx="8064360" cy="468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FE1-0F12-4AC6-93AF-1B35E837BEC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-linking the sca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External 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Whiteside heating data", aspect = 0.6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...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scales = list(relation = "free"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plot is now almost misleading!  Where possible make full use of linked scales in the panel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1C8-A6D7-4E4E-B559-EA9C54F690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E9E-2834-4D67-947C-4699F0CD42C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0:36:20Z</dcterms:modified>
  <cp:revision>18</cp:revision>
  <dc:subject/>
  <dc:title>S-PLUS, An Introduction to the System</dc:title>
</cp:coreProperties>
</file>