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move the slid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C9BF-83CF-4B30-B43E-1012C936EC8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52AA-4C9D-4FB6-8FF9-27BD1BF6B89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8A01-6B55-4ADE-A979-50ADDA377D4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882D-C0FD-4599-B876-0E1AD8679D9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8F9-786C-470E-8D35-784AABBC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AB9-3B2D-4517-BC31-9C867591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670-5DD6-4080-B146-C8025197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FDB-0FDD-484A-95CB-F41BA8FF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1BE-2418-4040-A1A3-8CFECC08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DFB-040A-494A-A710-7263D2C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219-0F70-4D09-9957-C885DE8A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15A-C7A2-4776-9383-6121B0FD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CB8-BACC-457C-A451-31266139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6AF-7197-4953-A4EE-E445065D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DB4-A428-4083-8EF2-DFD3783B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E98-7519-403A-B6F7-04365C41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6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D1575B-8B54-4DD0-B566-BF20746BBBE3}" type="slidenum">
              <a:rPr b="1" lang="en-GB" sz="16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erde.esalq.usp.br/~jorge/clarice/venables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R 2.5.1 Prelimin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venience features to make life a bit easier when working with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R Sess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nput and output of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text/SAS/Excel/… files, ODBC connexions,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ethods of intera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 lin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ative R script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editor (Tinn-R, WinEdit, Emacs/ESS, …) and R working in tandem – most powerful of al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0CB-94EE-476E-B177-12B140E995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Working with the fil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t aside a special directory (Microsoft: "folder") for all the files you will need, or generate, for this cour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all this the "working directory"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using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etwd(…..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make this directory your working director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ave your image, creating an .RData file in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o start R with this as your working directory, go to that directory with the file explorer and double-click on the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ub-directories for special kinds of file (e.g. graphics) are a good idea.  Neatness coun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297D-7CFB-4846-8EF8-9300F68ED00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Always keep an eye on the search path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ist of places from which objects are sought by the evaluator.  May include packages, attached lists or data frames, or the 'global environment'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Courier New"/>
              </a:rPr>
              <a:t>&gt; search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] ".GlobalEnv"        "package:stats"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3] "package:graphics"  "package:grDevices"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5] "package:utils"     "package:datasets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7] ".R_Data"           ".R_Utils"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9] "package:methods"   "Autoloads"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1] "package:base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381-4BEF-47F7-9822-8B23169524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 packages needed for the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ASOR (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ailable from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http://verde.esalq.usp.br/~jorge/clarice/venables/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gc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lattice, grid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gl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nlme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lme4,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ODBC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, foreig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rpart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tree, gbm, randomFore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hoose a .br CRAN mirror and install the ones in red.  The ones in blue should be already t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E03-1514-4D79-B03E-BB262B86A5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Demonstration 1: Installing and Using ASOR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ot strictly needed, but useful for large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llows large objects to be stored out of memory in a special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_Stor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ub-direct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Attach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make the stored files visible on the search pa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Stor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take objects out of memory and store as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Objects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list the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Remov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remove objects from the file sto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AD7-500D-442D-8E49-47F07FFEEF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Reading in data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simplest way is probably using .csv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sets for the course will come from several plac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data sets are already available on the course web site </a:t>
            </a:r>
            <a:r>
              <a:rPr b="0" lang="en-AU" sz="1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verde.esalq.usp.br/~jorge/clarice/venables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will be supplied as the course progresses, as need b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388-8884-4550-9012-6389468F7D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2: Reading in and Sto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wnload the CSVFiles.zip and unzip into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Tinn-R and open the script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make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e how it work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execute the script.  This will generate another script calle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xecute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 inputData.R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(not as a source file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is should start (if need be) an .R_Store directory of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472-4AA7-47FA-9A76-3CAC40EE27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Use of R for modell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 is a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languag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manipulating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objects</a:t>
            </a: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hen using S (i.e. the R program) use objects to transmit information as completely as possi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oid using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attach(data_se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detach(data_se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ake frequent use of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…),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…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…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FF2-372F-4094-A72D-6D7104406A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3: using </a:t>
            </a:r>
            <a:r>
              <a:rPr b="1" lang="en-US" sz="3200" spc="-1" strike="noStrike">
                <a:solidFill>
                  <a:srgbClr val="990033"/>
                </a:solidFill>
                <a:latin typeface="Courier New"/>
              </a:rPr>
              <a:t>with()</a:t>
            </a: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 &amp; frien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Like making a copy of the data object visible </a:t>
            </a:r>
            <a:r>
              <a:rPr b="0" i="1" lang="en-AU" sz="2400" spc="-1" strike="noStrike">
                <a:solidFill>
                  <a:srgbClr val="ff3300"/>
                </a:solidFill>
                <a:latin typeface="Arial Unicode MS"/>
              </a:rPr>
              <a:t>ahead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of the search path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nsures that variables come from the right pl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value &lt;- with(data, expression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data, do_someth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data frames to be exten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selection of rows or columns of data frames in a graceful wa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18C-C028-457A-86BD-68B457A1054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Quick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 Unicode MS"/>
              </a:rPr>
              <a:t>The janka data – a leading example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with(janka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plot(Density, Hardness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A29-0A55-4688-94AD-9CF8F43AE6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wo important environment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R_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R_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"C:\\PROGRA~1\\R\\R-25~1.0</a:t>
            </a:r>
            <a:r>
              <a:rPr b="1" lang="pt-BR" sz="1800" spc="-1" strike="noStrike">
                <a:solidFill>
                  <a:srgbClr val="000099"/>
                </a:solidFill>
                <a:latin typeface="Courier New"/>
              </a:rPr>
              <a:t>"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:\\Documents and Settings\\Bill Venables\\My Documents"</a:t>
            </a: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getwd(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"C:/Documents and Settings/Bill Venables/My Documents/R Modelling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0D6-F8F4-459D-A2F0-B5786F515F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_HOM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Usually located 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C:/Program Files/R/R-2.x.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Main subdirector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bin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executabl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include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rary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standard librari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do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document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et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initialisation, &amp;c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75D-7720-4F7A-AD31-922C765E2B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Initialis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System wide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     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etc/Rprofile.si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Global to a particular us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Particular to a chapt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&lt;wd&gt;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unction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Fir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794-01C7-441B-8928-9AAA740D95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Simple structure of the </a:t>
            </a:r>
            <a:r>
              <a:rPr b="0" lang="en-US" sz="3200" spc="-1" strike="noStrike">
                <a:solidFill>
                  <a:srgbClr val="006600"/>
                </a:solidFill>
                <a:latin typeface="Courier New"/>
              </a:rPr>
              <a:t>working directo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arent directory (folder) containing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imag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reated and maintained by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f required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utomatically executed when S-PLUS star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6600"/>
                </a:solidFill>
                <a:latin typeface="Courier New"/>
              </a:rPr>
              <a:t>File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objects for load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files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xls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csv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tx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…)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cripts,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R, *.q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utput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22C-BB59-4672-8095-2FBA5EA591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Editing the GUI Preferences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6336000" cy="547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CAD-530B-41FE-AE05-C66ED83346F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possibilities for </a:t>
            </a:r>
            <a:r>
              <a:rPr b="1" lang="en-AU" sz="32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 fi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extracts from my user 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options(show.signif.stars = FALS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length = 999999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for this course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MASS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nnet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674-840C-48BC-A630-1E8B51E95B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ASOR pac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llows data sets to be stored out of memor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Objects remain visible – 'promises' are set to load the data on dema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ill somewhat experimental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xerc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working directory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stall the ASOR package into your machin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Load all the data sets provided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ore them in an ASOR libr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.First function to Attach() the library on commencement of the R s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5EF-0137-4BE6-8959-81E75235AD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, An Introduction to th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R is a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ng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n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interactive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object-oriented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function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 langu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Data sets, vectors, matrices, arrays, lists, function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on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put and outpu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struction, computation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Graphical displa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ssignment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8EC-0FA1-456C-844E-8B8C7162BC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4:08:04Z</dcterms:created>
  <dc:creator>Venables</dc:creator>
  <dc:description/>
  <dc:language>en-US</dc:language>
  <cp:lastModifiedBy>Venables, Bill (CMIS, Cleveland)</cp:lastModifiedBy>
  <dcterms:modified xsi:type="dcterms:W3CDTF">2007-08-07T11:43:38Z</dcterms:modified>
  <cp:revision>10</cp:revision>
  <dc:subject/>
  <dc:title>Some S-PLUS 8.0.1 Preliminaries</dc:title>
</cp:coreProperties>
</file>