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8CE-D491-4D1E-9111-44FA6FC3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005-ABFC-4108-A26B-1B138812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F27-9684-4D7E-8EE6-BF5988B9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FC4-3D91-4A3C-9414-12B2AF12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A28-7886-4FAC-896C-12288D0E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67A-E800-4271-8530-8E08B534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48A-F5EA-47CA-BDD6-32BFB0EE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6BB-EDD4-43C7-90FC-BD273EA3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E28-8C1F-4D47-82EE-6DB61C66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BD5-6EF8-423A-A94C-9E9B1FA7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E3E-DB89-4FEE-82F1-D9A4746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3F7-5527-4088-B3CD-21134C90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898F8C-B910-411C-9C01-0DCE2E009FD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ditional and Modern Approaches to Modelling with R: An Advanced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ll Venables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SIRO, Cleveland, Australia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2007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ting th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range(Hardness, p1, p2, p3, na.rm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1, col=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2, col="blue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3, col="green4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gend(0, 3000, paste("p", 1:3, sep=""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ty = 1, col = c("red", "blue", "green4"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BFA-5E2E-48D3-99DB-EBE3D274EB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679-FC20-454B-84D8-11FBB8F698C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tability of coeffici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c(mean(janka$Hard), coef(jank.1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jank.2), coef(jank.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matrix(0, 4,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imnames(w) &lt;- list(paste("Degree", 0:3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ste("Model", 0: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            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0  1469.4722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1 -1160.4997 57.50667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2  -118.0074  9.43402  0.50908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3  -641.4379 46.86373 -0.33117  0.0059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979-D774-4AC5-BC97-E7FA70EA02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ffect of cente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a$d &lt;- scale(janka$Density, scale=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1a &lt;- lm(Hardness ~ d, jank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2a &lt;- update(jank.1a, .~.+I(d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3a &lt;- update(jank.2a, .~.+I(d^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jank.3a) - fitted(jank.3))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check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4.547474e-13  4.547474e-1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 &lt;- c(mean(janka$Hard), coef(jank.1a), coef(jank.2a)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oef(jank.3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0 1469.472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1 1469.472 57.50667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2 1378.197 55.99764  0.50908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3 1379.103 53.96095  0.48636  0.0059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AEB-7D69-4192-854B-5E92B86D4E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agnostic 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 &lt;- transform(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ittedValue = fitted(jank.2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Residual = resid(jank.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1 &lt;- xyplot(Residual ~ FittedValue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xyplot(x, y, col = "blue"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abline(h = 0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ty = "dashed", col = "re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2 &lt;- qqmath(~Residual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line(x, x, distribution = qnorm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col = "red", lty = "soli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1, position = c(0, 0.45, 0.55, 1), mor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2, position = c(0.45, 0, 1, 0.55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489-230A-4EEA-8448-8830F5B346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05E-E1E8-47F3-9459-A66E381F444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 transformation may be needed to stabilize the variance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is will also have an effect on the mean and may tend to linearise it as well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1, lambda = seq(0, 0.75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t &lt;- update(jank.1, sqrt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1t), resid(jank.1t), 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2, lambda = seq(-0.25, 0.6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t &lt;- update(jank.2, log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2t), resid(jank.2t), 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3B0-43E7-43E5-B8DE-8B5B0DC0A4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1B9-E7AB-44CA-BF66-9A06FCC9052D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essages so fa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quare-root transformation provides a straight-line relationship, but does not quite make the variance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~log transformation stabilizes the variance, but still requires a quadratic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table variance is much more important than a straight-line relationship, but can we have both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natural model to consider is a generalized linear model with constant coefficient of variation and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se suggest a gamma model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CE3-FFC9-4437-9F8C-A080AAF4D2F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janka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ensity =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q(min(Density), max(Density), len=200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jank.2t &lt;- predict(jank.2t, new = janka2, s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pjank.2t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an = 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 = fit - tau*se.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 = fit + tau*se.fi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ias.corr &lt;- 0.5*sum(resid(jank.2t)^2)/pjank.2t$d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99F-8D43-48C9-91D3-4A252C081CF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 and Modelling overview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, cont’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ardness = exp(mean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per = exp(up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wer = exp(lo + bias.cor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with(janka2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Hardness, lower, upper, janka$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CBE-079D-4A32-BD75-1350FE48E4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8D4-0E60-4DB2-917B-3CA76B13F4F6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quasi-likelihood GL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jank.glm &lt;- glm(Hardness ~ Density, family =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asi(link = sqrt, variance = "mu^2"), janka, trac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335429 Iterations - 1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3 Iterations - 2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3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4</a:t>
            </a:r>
            <a:r>
              <a:rPr b="1" lang="fr-FR" sz="12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jank.glm &lt;- predict(jank.glm, newdata = janka2, se.fit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3 &lt;- with(pjank.glm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transform(janka2, Hardness = fit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ower = (fit - 2*se.fit)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upper = (fit+2*se.fit)^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g &lt;- with(janka3, range(lower, upper, janka$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3,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12B-D2AF-42C2-B0EA-C9A75558203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78C-2876-4BC2-90A3-8C010E68730D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un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jank.2 &lt;- predict(jank.2, new = janka2, se=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anka2 &lt;- with(pjank.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ansform(janka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ardness = 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pper = fit + tau*se.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wer = fit-tau*se.fi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g &lt;- with(janka2, range(lower, upper, janka$Hard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, points(Density, Hardnes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D36-F992-4908-9253-A01887D6E4C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DC3-D6B7-44E0-9AD4-2A71EE66C8FF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284720" y="450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4136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92720" y="4005000"/>
            <a:ext cx="792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64000" y="3933360"/>
            <a:ext cx="72072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2766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835280" y="2276280"/>
            <a:ext cx="792000" cy="8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716360" y="342900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16720" y="2349360"/>
            <a:ext cx="0" cy="6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119700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1125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2349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4160" y="4781520"/>
            <a:ext cx="26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inear models (L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28464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1200" y="15811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120" y="1484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040" y="26226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0840" y="32846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0400" y="14018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/>
          <p:nvPr/>
        </p:nvCxnSpPr>
        <p:spPr>
          <a:xfrm flipV="1">
            <a:off x="1908000" y="1699920"/>
            <a:ext cx="648360" cy="4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12" name=""/>
          <p:cNvSpPr/>
          <p:nvPr/>
        </p:nvSpPr>
        <p:spPr>
          <a:xfrm>
            <a:off x="452160" y="409680"/>
            <a:ext cx="71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eneralizations of Traditional Linear Models: a 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581360"/>
            <a:ext cx="914400" cy="91440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M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87640" y="5013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22B-915F-48B3-B395-2E2E5F620755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planation of acrony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cronym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ultivariate LMs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LM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anov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L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e, lmer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on-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MM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lmmPQL, lm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Additive 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 (mgcv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0FD-FA17-43F1-96D4-9EE0EA9791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atistical modelling: a standpoint and 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ypical modelling situa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 variable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Unavoidable random variation: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Z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~ N(0,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ceptual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t 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GB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be some point in the range of the data near which we would like to approximate the fun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ssuming smoothness, we may do so by the first few terms in a power series expan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24000" y="3933720"/>
          <a:ext cx="518472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933720"/>
                    <a:ext cx="51847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128-7F0F-4FDD-9967-3AA4EAA69C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cal approxi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349360"/>
          <a:ext cx="561672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56167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971640" y="4076640"/>
          <a:ext cx="755964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076640"/>
                    <a:ext cx="75596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5C6-DDEE-4B5D-A225-0C3A45476B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nclu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gression models usually have an empirical justification as a local approximation to the response curve or surf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may only be useful in a close range about the observ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tending the range of usefulness for the approximation may require some allowance f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(or higher) degree curvature ter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actions between variab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normality of the error structure (skewness/kurtosi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reat deal more data than is available!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53A-3072-442C-B01C-C157B2B9F3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Janka hardne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Arial Unicode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ensity Hardness          Density Hardnes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    24.7      484       19    42.9     127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    24.8      427       20    45.8     11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    27.3      413       21    46.9     14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4    28.4      517       22    48.2     17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5    28.4      549       23    51.5     17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6    29.0      648       24    51.5     20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7    30.3      587       25    53.4     18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8    32.7      704       26    56.0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9    35.6      979       27    56.5     1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    38.5      914       28    57.3     20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1    38.8     1070       29    57.6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2    39.3     1020       30    59.2     23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3    39.4     1210       31    59.8     19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4    39.9      989       32    66.0     32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5    40.3     1160       33    67.4     27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6    40.6     1010       34    68.8     289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7    40.7     1100       35    69.1     27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8    40.7     1130       36    69.1     3140</a:t>
            </a:r>
            <a:r>
              <a:rPr b="0" lang="en-GB" sz="12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with(janka, plot(Density, Hardness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906-9CC6-445A-809E-D866DDB37F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0600" y="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B1C-0905-44BC-82F1-86F45C70B7E1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 &lt;- lm(Hardness ~ Density, jank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 &lt;- update(jank.1, .~.+I(Density^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3 &lt;- update(jank.2, .~.+I(Density^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rbind(jank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ata.frame(Density = seq(0, 70, length=200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ardness = N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Janka[order(Janka$Density), ] 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# ordered densitie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transform(Janka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1 = predict(jank.1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2 = predict(jank.2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3 = predict(jank.3, Jank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01C-18FE-4FE9-91DF-3A92129DFA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795672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567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9CE-13E4-4850-98A6-9385E5CC47D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6T23:50:50Z</dcterms:modified>
  <cp:revision>28</cp:revision>
  <dc:subject/>
  <dc:title>S-PLUS, An Introduction to the System</dc:title>
</cp:coreProperties>
</file>