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6832-ABA4-45D8-86FF-87E81CED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6511-D548-4E18-A6E5-19E22FA8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C609-35FD-487E-8B54-D95A00B2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7D91-7386-482C-9B5E-D7294D5D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1BF-3DFB-45CB-B38E-D42A52B0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BC14-0089-430E-8527-271FD409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36B4-3B1C-441B-87D6-02EEA9C7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9EC4-E355-4605-B402-8DABE42B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721-4E41-499C-85B0-B0890A60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EC0C-2FA0-4847-ACDB-98BDC726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7E54-548A-4100-92CD-19E71689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82F2-85C0-4191-B0B8-EBC3D708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12053C5-F16E-4629-BFD8-40CE7CD90EB9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11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ore on mixed effects modelling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95280" y="115920"/>
          <a:ext cx="7993080" cy="617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5920"/>
                    <a:ext cx="7993080" cy="61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CE6D-6BA7-4165-99CF-D84B881A29A6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84360" y="115920"/>
          <a:ext cx="7704000" cy="59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5920"/>
                    <a:ext cx="7704000" cy="59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7D78-0481-477F-A55A-94365CC27578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Variance compon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ummary(GLMM.Alcyonacea, corr = F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Linear mixed-effects model fit by maximum likelihood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ata: Benthos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IC      BIC    logLik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338.8218 371.0074 -157.410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andom effects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ormula:  ~ 1 | Cruis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(Intercept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dDev:   0.6677526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ormula:  ~ 1 | Plot %in% Cruis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(Intercept) Residual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dDev:   0.5896012 2.50996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Variance function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ructure: fixed weight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ormula:  ~ invwt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ixed effects: Alcyonacea ~ Topography + I(Impact * cbind(nsi(Intensity),    bin(Time))) + offset(log(SweptArea)) …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91F5-F9CC-4862-8D0D-99D8A0CE497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omm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this case, produces a result where the components of variance are smaller than the underlying Poisson componen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useful way of isolating various parts of the model to reveal (perhaps speculatively!) the fixed patter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good way of handling overdispersion – close connection between GLMMs and Negative Binomial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till somewhat controversial.  The inference process is still a matter of debat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10AC-E22C-4149-8C64-D1B199445F5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third non-linear example: the muscle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692360" y="2193840"/>
          <a:ext cx="5616360" cy="43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193840"/>
                    <a:ext cx="5616360" cy="43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303920" y="1427040"/>
            <a:ext cx="626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yplot(log(Length) ~ Conc | Strip, muscle, as.table = 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lab = "CaCl concentration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1587-77C7-4318-ABB2-E71DD62A7492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initial fit: fixed effects onl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uggested model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43 parameters with only 61 points.  Special care needs to be taken with fitting the mod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use the “plinear” algorithm both to simplify the model specification and to make the fitting process more robus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eed to specify the non-linear parameters only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n re-fit the model in a standard way to simplify predictions from i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979640" y="2060640"/>
          <a:ext cx="4753080" cy="7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060640"/>
                    <a:ext cx="47530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0F53-8EC9-49B5-8300-569B1041121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 &lt;- model.matrix(~Strip - 1, muscle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uscle.nls1 &lt;- nls(log(Length) ~ cbind(X, X*rho^Conc), muscle, start = c(rho = 0.1), algorithm = "plinear", trac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.....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 &lt;- as.vector(coef(muscle.nls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it &lt;- list(rho = b[1]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lpha = b[2:22], beta = b[23:43]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uscle.nls2 &lt;- nls(log(Length) ~ alpha[Strip] + beta[Strip]*rho^Conc, muscle, start = init, trac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.....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9822-C386-4C16-B771-C3D7C33DA089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ediction and presentation of the fi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 &lt;- expand.grid(Conc = seq(0.25, 4, len=20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rip = levels(muscle$Strip), Length = 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 &lt;- rbind(muscle, Muscl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 &lt;- Muscle[order(Muscle$Strip, Muscle$Conc), 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$fit &lt;- predict(muscle.nls2, Muscl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yplot(fit ~ Conc|Strip, Muscle, type = "l"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bscripts = T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 = function(x, y, subscripts, ...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points(x, log(Muscle$Length[subscripts]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, as.table = T, ylab = "log(Length)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lab = "CaCl concentration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7232-26CE-44E3-BCA0-94965D26FE2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16E8-8C9E-45D5-BB4D-9B3FED64A1D9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tting a mixed effects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50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.nlme &lt;- nlme(log(Length) ~ alpha + beta*rho^Conc, muscle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xed = rho+alpha+beta ~ 1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andom = alpha + beta ~ 1|Strip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rt = ival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$RandomFit &lt;- predict(muscle.nlme, Muscl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yplot(RandomFit ~ Conc|Strip, Muscle, type = "l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bscripts = T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 = function(x, y, subscripts, ...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lines(x, Muscle$fit[subscripts], col = "red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points(x, log(Muscle$Length[subscripts]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, as.table = T, ylab = "log(Length)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lab = "CaCl concentration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3E6B-A774-4262-BBDA-A6D18F86267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Generalized Linear Mixed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covery of the benthos after trawling on the Great Barrier Reef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6 Control plots, 6 Impact plo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Visited 2 times prior to treatment and 4 times afterwards – longitudinal stud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spection is by Benthic sled.  The total number of animals of each species is counted for each transec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ean trawl intensity in the transec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otal ‘swept area’ of the sled video camer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opography (Shallow or Deep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FD7E-A3B6-4BA1-B137-4660B735646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50920" y="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6AF9-723A-4CA9-9A66-6045357ACCB0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55640" y="47592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ummary(muscle.nlme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Nonlinear mixed-effects model fit by maximum likelihood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odel: log(Length) ~ alpha + beta * rho^Conc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andom effects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ormula: list(alpha ~ 1, beta ~ 1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Level: Strip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ructure: General positive-definite, Log-Cholesky parametrization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dDev     Corr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lpha    0.16991613 alpha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beta     0.88268573 0.35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esidual 0.07692169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ixed effects: rho + alpha + beta ~ 1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Value  Std.Error DF  t-value p-valu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ho    0.094083 0.01349832 37  6.96996       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lpha  3.363546 0.04486974 37 74.96247       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beta  -2.817441 0.29503865 37 -9.54940       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Correlation: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ho   alpha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lpha 0.371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beta  0.546 0.284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andardized Within-Group Residuals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in          Q1         Med          Q3         Max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-1.66713635 -0.34229465 -0.08582487  0.35210281  2.8433451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Number of Observations: 6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Number of Groups: 21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3BBE-13B4-4D9E-8109-DF799E275FEA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nal comm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linear regression offers a way of integrating empirical and “process”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f kinds of non-linear regression are to be repeatedly done, some investment in selfStart models pays off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“plinear” algorithm offers an effective way of using the simplicity of linear parameter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andom effects can be very tricky, but offer a way of “borrowing strength” from one group to another, in order to gain a more holistic representation of the process generating the data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A93D-6AB7-4FEE-A860-A88F1851D9F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For each species the total count for a control or pre-experiment treatment plot has a distribution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For a post-experiment treatment plot the distribution is similar, but the Poisson mean has additional term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se extra terms are a spline term in mean trawl intensity and a factor term to allow for recovery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11280" y="2781360"/>
          <a:ext cx="784836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781360"/>
                    <a:ext cx="784836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189080" y="4307040"/>
          <a:ext cx="6697800" cy="5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9080" y="4307040"/>
                    <a:ext cx="66978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43E-DFE0-4F64-8A2B-FEFC8C4B803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ome functions and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Species &lt;- scan("SpeciesNames.csv", what = "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match(Species, names(Benthos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bin &lt;- function(fac, all = F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 binary matrix for a factor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fac &lt;- as.factor(fac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X &lt;- outer(fac, levels(fac), "==") + 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if(all) X else X[, -1]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nsi &lt;- function(x, k = 3, Intensity = Benthos$Intensity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 natural spline in intensity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knots &lt;- as.vector(quantile(unique(Intensity), 0:k/k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ns(x, knots = knots[2:k], Boundary.knots = knots[c(1, k + 1)]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guard &lt;- function(x) ifelse(x &lt; -5, NA, x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AA37-F187-49A3-AF62-1BD5E4D0C7B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tting up the prediction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vars &lt;- c("Cruise", "Plot", "Months", "Treatment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"Time", "Impact", "Topography", "Unity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vals &lt;- with(Benthos, tapply(Intensity, Impact, mean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msa &lt;- mean(Benthos$SweptAre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newData &lt;- transform(Benthos[, vars]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Months = as.numeric(as.character(Months)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Intensity = vals[factor(Impact)]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weptArea = rep(msa, nrow(Benthos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newData &lt;- newData[order(Benthos$Months), 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80FB-420F-4C3E-AFD9-CE7CFBD696E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key speci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int(Species, quot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1] Alcyonacea                Annella.reticulata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3] Ctenocella.pectinata      Cymbastela.coralliophila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5] Dichotella.divergens      Echinogorgia.sp.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7] Hypodistoma.deeratum      Ianthella.flabelliformis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9] Junceella.fragilis        Junceella.juncea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11] Nephtheidae               Porifera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13] Sarcophyton.sp.           Scleractinia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15] Solenocaulon.sp.          Subergorgia.suberosa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17] Turbinaria.frondens       Xestospongia.testudinaria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se are names of some columns in th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enthos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data fram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We need to fit the master model for each and produce plots of the fixed and random effect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55BD-DC69-462D-9ED0-B8401003ECC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trick: fitting multiple similar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fitCommand &lt;- Quote({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fm &lt;- glmmPQL(Species ~ Topography +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ff0000"/>
                </a:solidFill>
                <a:latin typeface="Courier New"/>
              </a:rPr>
              <a:t>I(Impact * cbind(nsi(Intensity), bin(Time)))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+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offset(log(SweptArea))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random = ~1|Cruise/Plot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family = poisson, data = Benthos, verbose = T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7D64-848E-4FB7-8FAB-DCB255EE6EE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utting the trick to work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pno &lt;- 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0000"/>
                </a:solidFill>
                <a:latin typeface="Courier New"/>
              </a:rPr>
              <a:t>### --- start of main loop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mname &lt;- paste("GLMM", Species[spno], sep=".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name &lt;- Species[spno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hisFitCommand &lt;- do.call("substitute", list(fitCommand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list(fm = as.name(mname), Species = as.name(sname))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eval(thisFitCommand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rint(spno &lt;- spno + 1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0000"/>
                </a:solidFill>
                <a:latin typeface="Courier New"/>
              </a:rPr>
              <a:t>### --- end of main loop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objects(pat = "GLMM.*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1] "GLMM.Alcyonacea"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2] "GLMM.Annella.reticulata"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3] "GLMM.Ctenocella.pectinata"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4] "GLMM.Cymbastela.coralliophila"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5398-88A3-4E56-B719-ABE4D85AB51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lo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fm &lt;- predict(GLMM.Alcyonacea, newData) + log(msa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fm0 &lt;- predict(GLMM.Alcyonacea, newData, level=0) + log(msa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graphics.off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rellis.device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xyplot(guard(pfm) ~ Months|Treatment*Topography, newData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groups = Plot, type="b"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main = "Alcyonacea", ylab = "log(mean)"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ub = "fixed and random effects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xyplot(exp(pfm0) ~ Months|Treatment*Topography, newData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groups = Plot, type="b"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main = "Alcyonacea", ylab = "mean"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ub = "fixed effects only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E003-07BD-4BEB-8CEF-22732092EC7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9-06T14:11:12Z</dcterms:modified>
  <cp:revision>18</cp:revision>
  <dc:subject/>
  <dc:title>S-PLUS, An Introduction to the System</dc:title>
</cp:coreProperties>
</file>