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4AD-BD7D-4667-829D-52B215D3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6AB-EC6E-49E8-8DCF-6CFC7754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8DE-8C35-4801-9119-D19DBF79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AF1-9418-4E8C-9AD1-10A51B9B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C50-4BBE-4440-86AE-82EC9BE4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27B-2AF2-4C29-97F6-667D79BC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F2F-25F9-438D-A300-1BA0906B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20C-5BC4-4764-A9D6-4790248C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EEF-EE64-4638-ACAB-6510F48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947-FB37-485C-8A1E-2B7F508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EC4-6547-47A9-BF74-29EDFCC9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567-1DCA-4FC0-B7D2-47FDCAD0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F6FC63-39E6-4E2B-8DBF-5A9947AC0B17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 models, continu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confusion matrix is not very confus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cars93.t3, Cars93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table(pred, Typ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red      Compact Large Midsize Small Sporty Va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ompact      15     0       0     1      2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arge         0     9       1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Midsize       0     2      19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mall         0     0       0    20      4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porty        1     0       2     0      8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l test comes from a train/test sample: exerci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634-0A4C-4597-A7F3-16FD05A377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son with multinomia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nnet) </a:t>
            </a: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 multinomial is a neural network mode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 &lt;- multinom(Type ~ Width + EngineSiz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ssengers + Origin, cars93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fm &lt;- predict(m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cars93, table(Type, pf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fm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Type      Compact Large Midsize Small Sporty Va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mpact      13     0       1     1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rge         0    11       0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idsize       0     1      21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mall         1     0       0    19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porty        1     0       0     2     1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235-6EBD-4393-A9EF-F356CC7A61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pecial case of one or two predicto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hoose two likely useful predictor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 &lt;- tree(Type ~ Width + EngineSiz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); text(cars.2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.2t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1 &lt;- prune.misclass(cars.2t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1); text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305-6252-4414-8233-6902A32CBE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392" r="0" b="11091"/>
          <a:stretch/>
        </p:blipFill>
        <p:spPr>
          <a:xfrm>
            <a:off x="287280" y="981000"/>
            <a:ext cx="8569440" cy="53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99A-DAF8-4696-BB41-AF64ADDC6995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368-9BB4-43B1-B253-77209D2DDC5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6590" r="0" b="9125"/>
          <a:stretch/>
        </p:blipFill>
        <p:spPr>
          <a:xfrm>
            <a:off x="468360" y="816120"/>
            <a:ext cx="8207280" cy="52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8BD-4445-4243-9D03-65777355718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n alternative displa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Arial Unicode MS"/>
              </a:rPr>
              <a:t>If there are only two variables, the tree may be given as a two-dimensional diagra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oints(Width, EngineSize, pch=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as.numeric(Type), cex = 0.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egend("topleft", levels(Type), pch = 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1:length(levels(Type)), 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7C4-DC98-45D0-A26D-0F9658B842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854" r="0" b="0"/>
          <a:stretch/>
        </p:blipFill>
        <p:spPr>
          <a:xfrm>
            <a:off x="431640" y="836640"/>
            <a:ext cx="82807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EE0-26DF-4017-9995-0470A310E25B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89600" y="260280"/>
            <a:ext cx="69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janka.t1 &lt;- tree(Hardness ~ Density, jan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tition.tree(janka.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janka, points(Density, Hardness, col="red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10421" r="0" b="0"/>
          <a:stretch/>
        </p:blipFill>
        <p:spPr>
          <a:xfrm>
            <a:off x="838080" y="1341360"/>
            <a:ext cx="7467840" cy="50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8CA-FE5E-42B0-BD2E-54F826BCA5AF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nary data 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credit card data provides a more realistic examp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previous exercise used this data with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sider now using the tree package instea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et.seed(32867700) </a:t>
            </a:r>
            <a:r>
              <a:rPr b="1" lang="en-AU" sz="2400" spc="-1" strike="noStrike">
                <a:solidFill>
                  <a:srgbClr val="008080"/>
                </a:solidFill>
                <a:latin typeface="Courier New"/>
              </a:rPr>
              <a:t># my home phone numb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ind &lt;- sample(nrow(CC), 8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rain &lt;- CC[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est &lt;- CC[-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tore(CCTrain, CCTes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958-35C2-4FB1-84EF-0907371EB13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lassification: more on c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 &lt;- subset(Cars93, select = -c(Manufactur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del, Rear.seat.room, Luggage.room, Make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nt(names(cars93), quote = FALS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] Price              Max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] MPG.city           MPG.highway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7]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9] Cylinders          EngineSize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1] Horsepower         RPM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3]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5] Fuel.tank.capacity Passengers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7] Length             Wheelbas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9]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1] Weight             Origin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984-ABF7-42A3-8539-EA9EE1D7BD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50840" y="476280"/>
            <a:ext cx="704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t1 &lt;- tree(credit.card.owner ~ ., CC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misclas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tre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78640" cy="42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80A-6FBC-4D11-8DEF-3672248CA80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est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t2 &lt;- prune.misclass(CC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 &lt;- function(fit, data = CCTest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fit, data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 &lt;- formula(fit)[[2]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matrix &lt;- with(data, table(eval(Y), pred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ot &lt;- sum(Cmatrix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err &lt;- tot - sum(diag(Cmatrix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100*err/to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1)  #  [1] 18.39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2)  #  [1] 18.2716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B5E-FB02-4C20-AD1B-3ACEF79D07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imple bagg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### simple bagging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gedTree &lt;- local(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sample &lt;- function(dat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ata[sample(nrow(data), rep = TRUE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unction (object, data = eval(object$call$dat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nBags = 200, ...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 &lt;- list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or (j in 1:nBag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[[j]] &lt;- update(object, data = bsample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ttr(bagsFull, "formula") &lt;- formula(objec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class(bagsFull) &lt;- "bagTree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B16-5FEC-46D3-8628-6AF5C566D3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Methods and t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mula.bagTree &lt;- function(x, ...) attr(x, "formula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Tree &lt;- function(object, newdata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sapply(object, predict, newdata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 &lt;- sort(unique(val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Vote &lt;- apply(vals, 1, function(x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hich.max(table(factor(x, levels = svals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[mVote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bag &lt;- baggedTree(CC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2(CC.bag) </a:t>
            </a:r>
            <a:r>
              <a:rPr b="1" lang="en-AU" sz="1800" spc="-1" strike="noStrike">
                <a:solidFill>
                  <a:srgbClr val="008080"/>
                </a:solidFill>
                <a:latin typeface="Courier New"/>
              </a:rPr>
              <a:t># [1] 13.7037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A81-C76C-4051-ACC9-119C1C729C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ibrary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C.rf &lt;- randomForest(credit.card.owner ~ ., CC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estPred2(CC.rf)  </a:t>
            </a: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[1] 13.209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Random forests wins, but by a very slight marg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Bagged methods are (in this case) far superior to trees, pruned or otherw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Also better (again, in this case) than the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644-34B7-4632-8065-DAC95CC56E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jec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want to build a tree classifier for the Type of car from the other variables (no good reason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omit variables that have missing values and factors with large numbers of lev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package for illustrative purpo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ll cycle i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uild an initial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eck size by cross-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une to something sensi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1DF-A784-4F39-92F3-6A11FD8062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struction and cross-valid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1 &lt;- tree(Type ~ ., cars93, minsize =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11(width = 8, heigh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1); text(cars93.t1, cex = 0.7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tre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an alternative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A62-460F-4523-A07D-C73656F8CB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0" y="83664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FB3-3A4C-4406-88FC-FFA92F00B4E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5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303-862E-461D-923D-9258813D0A9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 = prune.misclas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6640"/>
            <a:ext cx="7694640" cy="581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A91-DB0A-4FC7-86C5-D1BAF5F3B7F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an us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nip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to prune manuall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devianc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misclas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misclassification rat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2 &lt;- prune.misclass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2, type = "u"); text(cars93.t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3 &lt;- prune.tree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3, type = "u"); text(cars93.t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th methods lead to the same tree, her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B08-100D-4A99-9CC6-B15DD3418A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324000" y="692280"/>
            <a:ext cx="849600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437-661A-4A94-860B-6C11AA10F22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2:11Z</dcterms:modified>
  <cp:revision>15</cp:revision>
  <dc:subject/>
  <dc:title>S-PLUS, An Introduction to the System</dc:title>
</cp:coreProperties>
</file>